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3.png" ContentType="image/png"/>
  <Override PartName="/ppt/media/image11.jpeg" ContentType="image/jpeg"/>
  <Override PartName="/ppt/media/image9.png" ContentType="image/png"/>
  <Override PartName="/ppt/media/image17.wmf" ContentType="image/x-wmf"/>
  <Override PartName="/ppt/media/image8.jpeg" ContentType="image/jpeg"/>
  <Override PartName="/ppt/media/image12.png" ContentType="image/png"/>
  <Override PartName="/ppt/media/image7.png" ContentType="image/png"/>
  <Override PartName="/ppt/media/image1.jpeg" ContentType="image/jpeg"/>
  <Override PartName="/ppt/media/image15.wmf" ContentType="image/x-wmf"/>
  <Override PartName="/ppt/media/image10.png" ContentType="image/png"/>
  <Override PartName="/ppt/media/image22.png" ContentType="image/png"/>
  <Override PartName="/ppt/media/image21.jpeg" ContentType="image/jpeg"/>
  <Override PartName="/ppt/media/image16.png" ContentType="image/png"/>
  <Override PartName="/ppt/media/image20.png" ContentType="image/png"/>
  <Override PartName="/ppt/media/image2.jpeg" ContentType="image/jpeg"/>
  <Override PartName="/ppt/media/image19.png" ContentType="image/png"/>
  <Override PartName="/ppt/media/image3.jpeg" ContentType="image/jpeg"/>
  <Override PartName="/ppt/media/image14.png" ContentType="image/png"/>
  <Override PartName="/ppt/media/image4.jpeg" ContentType="image/jpeg"/>
  <Override PartName="/ppt/media/image18.wmf" ContentType="image/x-wmf"/>
  <Override PartName="/ppt/media/image5.jpeg" ContentType="image/jpeg"/>
  <Override PartName="/ppt/media/image6.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1" lang="en-US" sz="7600" spc="-1" strike="noStrike">
              <a:solidFill>
                <a:srgbClr val="ffd624"/>
              </a:solidFill>
              <a:latin typeface="Verdana"/>
            </a:endParaRPr>
          </a:p>
        </p:txBody>
      </p:sp>
      <p:sp>
        <p:nvSpPr>
          <p:cNvPr id="1083" name="PlaceHolder 1"/>
          <p:cNvSpPr>
            <a:spLocks noGrp="1"/>
          </p:cNvSpPr>
          <p:nvPr>
            <p:ph type="hdr"/>
          </p:nvPr>
        </p:nvSpPr>
        <p:spPr>
          <a:xfrm>
            <a:off x="0" y="0"/>
            <a:ext cx="2982960" cy="49536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084" name="PlaceHolder 2"/>
          <p:cNvSpPr>
            <a:spLocks noGrp="1"/>
          </p:cNvSpPr>
          <p:nvPr>
            <p:ph type="dt" idx="76"/>
          </p:nvPr>
        </p:nvSpPr>
        <p:spPr>
          <a:xfrm>
            <a:off x="3898800" y="0"/>
            <a:ext cx="2982960" cy="49536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085" name="PlaceHolder 3"/>
          <p:cNvSpPr>
            <a:spLocks noGrp="1"/>
          </p:cNvSpPr>
          <p:nvPr>
            <p:ph type="sldImg"/>
          </p:nvPr>
        </p:nvSpPr>
        <p:spPr>
          <a:xfrm>
            <a:off x="966600" y="743040"/>
            <a:ext cx="4951080" cy="3713040"/>
          </a:xfrm>
          <a:prstGeom prst="rect">
            <a:avLst/>
          </a:prstGeom>
          <a:noFill/>
          <a:ln w="9360">
            <a:solidFill>
              <a:srgbClr val="000000"/>
            </a:solidFill>
            <a:miter/>
          </a:ln>
        </p:spPr>
        <p:txBody>
          <a:bodyPr lIns="90000" rIns="90000" tIns="46800" bIns="46800" anchor="t">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1086" name="PlaceHolder 4"/>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7" name="PlaceHolder 5"/>
          <p:cNvSpPr>
            <a:spLocks noGrp="1"/>
          </p:cNvSpPr>
          <p:nvPr>
            <p:ph type="ftr" idx="77"/>
          </p:nvPr>
        </p:nvSpPr>
        <p:spPr>
          <a:xfrm>
            <a:off x="0" y="9408960"/>
            <a:ext cx="2982960" cy="49536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088" name="PlaceHolder 6"/>
          <p:cNvSpPr>
            <a:spLocks noGrp="1"/>
          </p:cNvSpPr>
          <p:nvPr>
            <p:ph type="sldNum" idx="78"/>
          </p:nvPr>
        </p:nvSpPr>
        <p:spPr>
          <a:xfrm>
            <a:off x="3898800" y="9408960"/>
            <a:ext cx="29829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FDE11-2D9E-4138-8C2D-2D0455B6CEE7}"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966960" y="743040"/>
            <a:ext cx="4951080" cy="3713040"/>
          </a:xfrm>
          <a:prstGeom prst="rect">
            <a:avLst/>
          </a:prstGeom>
          <a:ln w="0">
            <a:noFill/>
          </a:ln>
        </p:spPr>
      </p:sp>
      <p:sp>
        <p:nvSpPr>
          <p:cNvPr id="1190"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uy buenos días a to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sta primera intervención sobre la Acción 2 del Erasmus Mundus pretende mostrar de forma general los resultados que ha generado/y que está generando una Acción de cooparación de gran envergadura y ambición tal y como lo muestran sus resultados tangibles y los no ta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1"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9B7C-7E9E-4280-8119-AE6DB513E297}"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66960" y="743040"/>
            <a:ext cx="4951080" cy="3713040"/>
          </a:xfrm>
          <a:prstGeom prst="rect">
            <a:avLst/>
          </a:prstGeom>
          <a:ln w="0">
            <a:noFill/>
          </a:ln>
        </p:spPr>
      </p:sp>
      <p:sp>
        <p:nvSpPr>
          <p:cNvPr id="1217"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os países agrupados bajo "Grupo A"  (Bolivia, Peru, Ecuador y Paraguay / Honduras, El Salvador, Guatemala, y Nicaragua), sin duda obliga a las universidades europeas a asociarse con los países menos desarrollados de Latin America, consiguiendo una buena cobertura geográfica!</a:t>
            </a:r>
            <a:endParaRPr b="0" lang="en-US" sz="1200" spc="-1" strike="noStrike">
              <a:solidFill>
                <a:srgbClr val="000000"/>
              </a:solidFill>
              <a:latin typeface="Arial"/>
            </a:endParaRPr>
          </a:p>
        </p:txBody>
      </p:sp>
      <p:sp>
        <p:nvSpPr>
          <p:cNvPr id="1218"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E2CFB-C5C5-4FDE-B39A-BDEC2183D3ED}"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966960" y="743040"/>
            <a:ext cx="4951080" cy="3713040"/>
          </a:xfrm>
          <a:prstGeom prst="rect">
            <a:avLst/>
          </a:prstGeom>
          <a:ln w="0">
            <a:noFill/>
          </a:ln>
        </p:spPr>
      </p:sp>
      <p:sp>
        <p:nvSpPr>
          <p:cNvPr id="1220"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Regional: contribución a estrechar las relaciones entre UE/AL</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País: se puede decir que el programa habría contribuido en la cohesión social de los países participantes gracias a la participación de estudiantes en desventaja economica y social además de los TG3 así como los provenientes se las instituciones situadas en los estados con menos índice de desarrollo. (requerimientos todos ellos establecidos en la convocatoria para proyecto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nstitucional:</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l número de acuerdos bilaterales de cooperación suscritos entre las universidades; las áreas de investigación conjuntas iniciadas con la movilidad de un académico y que luego dan pie a otras movilidades; los cientos de proyectos/colaboraciones conjuntas que se han producido como consecuencia del estímulo dado a los estudiantes de doctorado co-tutelados por profesores de universisdad de origen y destino;  son solo algunos ejemplos del impacto causado por este programa.</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 Individual: experiencia personal, intercambio cultural, mejora en su carrera, mejor preparación, …etc</a:t>
            </a:r>
            <a:endParaRPr b="0" lang="en-US" sz="1200" spc="-1" strike="noStrike">
              <a:solidFill>
                <a:srgbClr val="000000"/>
              </a:solidFill>
              <a:latin typeface="Arial"/>
            </a:endParaRPr>
          </a:p>
        </p:txBody>
      </p:sp>
      <p:sp>
        <p:nvSpPr>
          <p:cNvPr id="1221"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C9A4-897B-4ABF-A93A-A705C6560BDF}"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966960" y="743040"/>
            <a:ext cx="4951080" cy="3713040"/>
          </a:xfrm>
          <a:prstGeom prst="rect">
            <a:avLst/>
          </a:prstGeom>
          <a:ln w="0">
            <a:noFill/>
          </a:ln>
        </p:spPr>
      </p:sp>
      <p:sp>
        <p:nvSpPr>
          <p:cNvPr id="1223"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De acuerdo con las conclusiones extraidas del informe del ROM (Monitoreo sobre los resultados a  medio plazo de los proyectos de AL), se pueden apreciar los siguientes resultados</a:t>
            </a:r>
            <a:endParaRPr b="0" lang="en-US" sz="1200" spc="-1" strike="noStrike">
              <a:solidFill>
                <a:srgbClr val="000000"/>
              </a:solidFill>
              <a:latin typeface="Arial"/>
            </a:endParaRPr>
          </a:p>
        </p:txBody>
      </p:sp>
      <p:sp>
        <p:nvSpPr>
          <p:cNvPr id="1224"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78F30-ECEF-4B5D-BF42-14749E0499E8}"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966960" y="743040"/>
            <a:ext cx="4951080" cy="3713040"/>
          </a:xfrm>
          <a:prstGeom prst="rect">
            <a:avLst/>
          </a:prstGeom>
          <a:ln w="0">
            <a:noFill/>
          </a:ln>
        </p:spPr>
      </p:sp>
      <p:sp>
        <p:nvSpPr>
          <p:cNvPr id="1226"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l resultado de la repartición de los diferentes tipos de movilidad corresponde con los porcentajes establecidos en la convocatoria. De este modo, por ejemplo, se observa que las estancias de movilidad en estudios de pregrado representa casi un 40% tal y como requerido en las convocatorias…</a:t>
            </a:r>
            <a:endParaRPr b="0" lang="en-US" sz="1200" spc="-1" strike="noStrike">
              <a:solidFill>
                <a:srgbClr val="000000"/>
              </a:solidFill>
              <a:latin typeface="Arial"/>
            </a:endParaRPr>
          </a:p>
        </p:txBody>
      </p:sp>
      <p:sp>
        <p:nvSpPr>
          <p:cNvPr id="1227"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FB10-4209-42F3-A034-8633B8EF6EEF}"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966960" y="743040"/>
            <a:ext cx="4951080" cy="3713040"/>
          </a:xfrm>
          <a:prstGeom prst="rect">
            <a:avLst/>
          </a:prstGeom>
          <a:ln w="0">
            <a:noFill/>
          </a:ln>
        </p:spPr>
      </p:sp>
      <p:sp>
        <p:nvSpPr>
          <p:cNvPr id="1229"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quellos que se beneficien de una beca EM deben ser latinoamericanos de cualquier país del Lote AL, en concreto: </a:t>
            </a:r>
            <a:br>
              <a:rPr sz="1200"/>
            </a:br>
            <a:r>
              <a:rPr b="0" lang="es-ES" sz="1200" spc="-1" strike="noStrike">
                <a:solidFill>
                  <a:srgbClr val="000000"/>
                </a:solidFill>
                <a:latin typeface="Arial"/>
              </a:rPr>
              <a:t>(TG1)/Grupo destinatario 1: tiene que estar registrado en uno de las universidades del partenariado. Mínimo 50% de la movilidad</a:t>
            </a:r>
            <a:br>
              <a:rPr sz="1200"/>
            </a:br>
            <a:r>
              <a:rPr b="0" lang="es-ES" sz="1200" spc="-1" strike="noStrike">
                <a:solidFill>
                  <a:srgbClr val="000000"/>
                </a:solidFill>
                <a:latin typeface="Arial"/>
              </a:rPr>
              <a:t>(TG2)/Grupo destinatario 2: registrado en una IES no incluida en el partenariado o haber obtenido un título universitario de una institución de estos países. Mínimo 20% de la movilidad</a:t>
            </a:r>
            <a:br>
              <a:rPr sz="1200"/>
            </a:br>
            <a:r>
              <a:rPr b="0" lang="es-ES" sz="1200" spc="-1" strike="noStrike">
                <a:solidFill>
                  <a:srgbClr val="000000"/>
                </a:solidFill>
                <a:latin typeface="Arial"/>
              </a:rPr>
              <a:t>(TG3)/Grupo destinatario 3: se debe encontrar en situaciones especialmente vulnerables, por razones sociales y políticas (por ejemplo, los solicitantes de la condición de refugiado o de asilo,  poblaciones indígenas o PDI). Mínimo 20% de la movilidad de AL debe de provenir de los países prioritatiros Grup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200" spc="-1" strike="noStrike">
                <a:solidFill>
                  <a:srgbClr val="000000"/>
                </a:solidFill>
                <a:latin typeface="Arial"/>
              </a:rPr>
              <a:t>((Figures are based only on the implemented mobility so far!))</a:t>
            </a:r>
            <a:endParaRPr b="0" lang="en-US" sz="1200" spc="-1" strike="noStrike">
              <a:solidFill>
                <a:srgbClr val="000000"/>
              </a:solidFill>
              <a:latin typeface="Arial"/>
            </a:endParaRPr>
          </a:p>
        </p:txBody>
      </p:sp>
      <p:sp>
        <p:nvSpPr>
          <p:cNvPr id="1230"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24AE6-56CA-4394-95C9-39597B514C28}"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966960" y="743040"/>
            <a:ext cx="4951080" cy="3713040"/>
          </a:xfrm>
          <a:prstGeom prst="rect">
            <a:avLst/>
          </a:prstGeom>
          <a:ln w="0">
            <a:noFill/>
          </a:ln>
        </p:spPr>
      </p:sp>
      <p:sp>
        <p:nvSpPr>
          <p:cNvPr id="1232" name="PlaceHolder 2"/>
          <p:cNvSpPr>
            <a:spLocks noGrp="1"/>
          </p:cNvSpPr>
          <p:nvPr>
            <p:ph type="body"/>
          </p:nvPr>
        </p:nvSpPr>
        <p:spPr>
          <a:xfrm>
            <a:off x="687240" y="4704840"/>
            <a:ext cx="550872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3"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8F547-DFBE-40FB-9438-14638DB9FDEE}"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966960" y="743040"/>
            <a:ext cx="4951080" cy="3713040"/>
          </a:xfrm>
          <a:prstGeom prst="rect">
            <a:avLst/>
          </a:prstGeom>
          <a:ln w="0">
            <a:noFill/>
          </a:ln>
        </p:spPr>
      </p:sp>
      <p:sp>
        <p:nvSpPr>
          <p:cNvPr id="1235"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Algunas universidades europeas son muy activas en este programa, son principalmente instituciones españolas, portuguesas, italianas y francesas por obvios motivos lingüísticos y de tradición pero también se observa la presencia importante de universidades latinoamericanas, Brazil…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000" spc="-1" strike="noStrike">
                <a:solidFill>
                  <a:srgbClr val="ffffff"/>
                </a:solidFill>
                <a:latin typeface="Arial"/>
              </a:rPr>
              <a:t>Al mimo tiempo es importante mencionar una ligera tendencia de cambio hacia otras universidades de países como Alemania, Holanda, Suecia con un 5% de acogida de estudiantes LA. En menor medida pero también interesantes son Polonia y Rep Checa quienes acogieron casi un 2% de las movilidad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LA Host Ctr</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R</a:t>
            </a:r>
            <a:r>
              <a:rPr b="0" lang="en-GB" sz="1000" spc="-1" strike="noStrike">
                <a:solidFill>
                  <a:srgbClr val="000000"/>
                </a:solidFill>
                <a:latin typeface="Arial"/>
              </a:rPr>
              <a:t>	</a:t>
            </a:r>
            <a:r>
              <a:rPr b="1" lang="en-GB" sz="1200" spc="-1" strike="noStrike">
                <a:solidFill>
                  <a:srgbClr val="000000"/>
                </a:solidFill>
                <a:latin typeface="Calibri"/>
              </a:rPr>
              <a:t>42,74%</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X</a:t>
            </a:r>
            <a:r>
              <a:rPr b="0" lang="en-GB" sz="1000" spc="-1" strike="noStrike">
                <a:solidFill>
                  <a:srgbClr val="000000"/>
                </a:solidFill>
                <a:latin typeface="Arial"/>
              </a:rPr>
              <a:t>	</a:t>
            </a:r>
            <a:r>
              <a:rPr b="0" lang="en-GB" sz="1200" spc="-1" strike="noStrike">
                <a:solidFill>
                  <a:srgbClr val="000000"/>
                </a:solidFill>
                <a:latin typeface="Calibri"/>
              </a:rPr>
              <a:t>8,23%</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L</a:t>
            </a:r>
            <a:r>
              <a:rPr b="0" lang="en-GB" sz="1000" spc="-1" strike="noStrike">
                <a:solidFill>
                  <a:srgbClr val="000000"/>
                </a:solidFill>
                <a:latin typeface="Arial"/>
              </a:rPr>
              <a:t>	</a:t>
            </a:r>
            <a:r>
              <a:rPr b="0" lang="en-GB" sz="1200" spc="-1" strike="noStrike">
                <a:solidFill>
                  <a:srgbClr val="000000"/>
                </a:solidFill>
                <a:latin typeface="Calibri"/>
              </a:rPr>
              <a:t>7,90%</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R</a:t>
            </a:r>
            <a:r>
              <a:rPr b="0" lang="en-GB" sz="1000" spc="-1" strike="noStrike">
                <a:solidFill>
                  <a:srgbClr val="000000"/>
                </a:solidFill>
                <a:latin typeface="Arial"/>
              </a:rPr>
              <a:t>	</a:t>
            </a:r>
            <a:r>
              <a:rPr b="0" lang="en-GB" sz="1200" spc="-1" strike="noStrike">
                <a:solidFill>
                  <a:srgbClr val="000000"/>
                </a:solidFill>
                <a:latin typeface="Calibri"/>
              </a:rPr>
              <a:t>7,74%</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a:t>
            </a:r>
            <a:r>
              <a:rPr b="0" lang="en-GB" sz="1000" spc="-1" strike="noStrike">
                <a:solidFill>
                  <a:srgbClr val="000000"/>
                </a:solidFill>
                <a:latin typeface="Arial"/>
              </a:rPr>
              <a:t>	</a:t>
            </a:r>
            <a:r>
              <a:rPr b="0" lang="en-GB" sz="1200" spc="-1" strike="noStrike">
                <a:solidFill>
                  <a:srgbClr val="000000"/>
                </a:solidFill>
                <a:latin typeface="Calibri"/>
              </a:rPr>
              <a:t>4,35%</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R</a:t>
            </a:r>
            <a:r>
              <a:rPr b="0" lang="en-GB" sz="1000" spc="-1" strike="noStrike">
                <a:solidFill>
                  <a:srgbClr val="000000"/>
                </a:solidFill>
                <a:latin typeface="Arial"/>
              </a:rPr>
              <a:t>	</a:t>
            </a:r>
            <a:r>
              <a:rPr b="0" lang="en-GB" sz="1200" spc="-1" strike="noStrike">
                <a:solidFill>
                  <a:srgbClr val="000000"/>
                </a:solidFill>
                <a:latin typeface="Calibri"/>
              </a:rPr>
              <a:t>4,03%</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UY</a:t>
            </a:r>
            <a:r>
              <a:rPr b="0" lang="en-GB" sz="1000" spc="-1" strike="noStrike">
                <a:solidFill>
                  <a:srgbClr val="000000"/>
                </a:solidFill>
                <a:latin typeface="Arial"/>
              </a:rPr>
              <a:t>	</a:t>
            </a:r>
            <a:r>
              <a:rPr b="0" lang="en-GB" sz="1200" spc="-1" strike="noStrike">
                <a:solidFill>
                  <a:srgbClr val="000000"/>
                </a:solidFill>
                <a:latin typeface="Calibri"/>
              </a:rPr>
              <a:t>4,03%</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A</a:t>
            </a:r>
            <a:r>
              <a:rPr b="0" lang="en-GB" sz="1000" spc="-1" strike="noStrike">
                <a:solidFill>
                  <a:srgbClr val="000000"/>
                </a:solidFill>
                <a:latin typeface="Arial"/>
              </a:rPr>
              <a:t>	</a:t>
            </a:r>
            <a:r>
              <a:rPr b="0" lang="en-GB" sz="1200" spc="-1" strike="noStrike">
                <a:solidFill>
                  <a:srgbClr val="000000"/>
                </a:solidFill>
                <a:latin typeface="Calibri"/>
              </a:rPr>
              <a:t>3,87%</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E</a:t>
            </a:r>
            <a:r>
              <a:rPr b="0" lang="en-GB" sz="1000" spc="-1" strike="noStrike">
                <a:solidFill>
                  <a:srgbClr val="000000"/>
                </a:solidFill>
                <a:latin typeface="Arial"/>
              </a:rPr>
              <a:t>	</a:t>
            </a:r>
            <a:r>
              <a:rPr b="0" lang="en-GB" sz="1200" spc="-1" strike="noStrike">
                <a:solidFill>
                  <a:srgbClr val="000000"/>
                </a:solidFill>
                <a:latin typeface="Calibri"/>
              </a:rPr>
              <a:t>3,71%</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a:t>
            </a:r>
            <a:r>
              <a:rPr b="0" lang="en-GB" sz="1000" spc="-1" strike="noStrike">
                <a:solidFill>
                  <a:srgbClr val="000000"/>
                </a:solidFill>
                <a:latin typeface="Arial"/>
              </a:rPr>
              <a:t>	</a:t>
            </a:r>
            <a:r>
              <a:rPr b="0" lang="en-GB" sz="1200" spc="-1" strike="noStrike">
                <a:solidFill>
                  <a:srgbClr val="000000"/>
                </a:solidFill>
                <a:latin typeface="Calibri"/>
              </a:rPr>
              <a:t>3,06%</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Y</a:t>
            </a:r>
            <a:r>
              <a:rPr b="0" lang="en-GB" sz="1000" spc="-1" strike="noStrike">
                <a:solidFill>
                  <a:srgbClr val="000000"/>
                </a:solidFill>
                <a:latin typeface="Arial"/>
              </a:rPr>
              <a:t>	</a:t>
            </a:r>
            <a:r>
              <a:rPr b="0" lang="en-GB" sz="1200" spc="-1" strike="noStrike">
                <a:solidFill>
                  <a:srgbClr val="000000"/>
                </a:solidFill>
                <a:latin typeface="Calibri"/>
              </a:rPr>
              <a:t>2,42%</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EC</a:t>
            </a:r>
            <a:r>
              <a:rPr b="0" lang="en-GB" sz="1000" spc="-1" strike="noStrike">
                <a:solidFill>
                  <a:srgbClr val="000000"/>
                </a:solidFill>
                <a:latin typeface="Arial"/>
              </a:rPr>
              <a:t>	</a:t>
            </a:r>
            <a:r>
              <a:rPr b="0" lang="en-GB" sz="1200" spc="-1" strike="noStrike">
                <a:solidFill>
                  <a:srgbClr val="000000"/>
                </a:solidFill>
                <a:latin typeface="Calibri"/>
              </a:rPr>
              <a:t>2,26%</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VE</a:t>
            </a:r>
            <a:r>
              <a:rPr b="0" lang="en-GB" sz="1000" spc="-1" strike="noStrike">
                <a:solidFill>
                  <a:srgbClr val="000000"/>
                </a:solidFill>
                <a:latin typeface="Arial"/>
              </a:rPr>
              <a:t>	</a:t>
            </a:r>
            <a:r>
              <a:rPr b="0" lang="en-GB" sz="1200" spc="-1" strike="noStrike">
                <a:solidFill>
                  <a:srgbClr val="000000"/>
                </a:solidFill>
                <a:latin typeface="Calibri"/>
              </a:rPr>
              <a:t>1,29%</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O</a:t>
            </a:r>
            <a:r>
              <a:rPr b="0" lang="en-GB" sz="1000" spc="-1" strike="noStrike">
                <a:solidFill>
                  <a:srgbClr val="000000"/>
                </a:solidFill>
                <a:latin typeface="Arial"/>
              </a:rPr>
              <a:t>	</a:t>
            </a:r>
            <a:r>
              <a:rPr b="0" lang="en-GB" sz="1200" spc="-1" strike="noStrike">
                <a:solidFill>
                  <a:srgbClr val="000000"/>
                </a:solidFill>
                <a:latin typeface="Calibri"/>
              </a:rPr>
              <a:t>1,13%</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T</a:t>
            </a:r>
            <a:r>
              <a:rPr b="0" lang="en-GB" sz="1000" spc="-1" strike="noStrike">
                <a:solidFill>
                  <a:srgbClr val="000000"/>
                </a:solidFill>
                <a:latin typeface="Arial"/>
              </a:rPr>
              <a:t>	</a:t>
            </a:r>
            <a:r>
              <a:rPr b="0" lang="en-GB" sz="1200" spc="-1" strike="noStrike">
                <a:solidFill>
                  <a:srgbClr val="000000"/>
                </a:solidFill>
                <a:latin typeface="Calibri"/>
              </a:rPr>
              <a:t>0,97%</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I</a:t>
            </a:r>
            <a:r>
              <a:rPr b="0" lang="en-GB" sz="1000" spc="-1" strike="noStrike">
                <a:solidFill>
                  <a:srgbClr val="000000"/>
                </a:solidFill>
                <a:latin typeface="Arial"/>
              </a:rPr>
              <a:t>	</a:t>
            </a:r>
            <a:r>
              <a:rPr b="0" lang="en-GB" sz="1200" spc="-1" strike="noStrike">
                <a:solidFill>
                  <a:srgbClr val="000000"/>
                </a:solidFill>
                <a:latin typeface="Calibri"/>
              </a:rPr>
              <a:t>0,81%</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V</a:t>
            </a:r>
            <a:r>
              <a:rPr b="0" lang="en-GB" sz="1000" spc="-1" strike="noStrike">
                <a:solidFill>
                  <a:srgbClr val="000000"/>
                </a:solidFill>
                <a:latin typeface="Arial"/>
              </a:rPr>
              <a:t>	</a:t>
            </a:r>
            <a:r>
              <a:rPr b="0" lang="en-GB" sz="1200" spc="-1" strike="noStrike">
                <a:solidFill>
                  <a:srgbClr val="000000"/>
                </a:solidFill>
                <a:latin typeface="Calibri"/>
              </a:rPr>
              <a:t>0,48%</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N</a:t>
            </a:r>
            <a:r>
              <a:rPr b="0" lang="en-GB" sz="1000" spc="-1" strike="noStrike">
                <a:solidFill>
                  <a:srgbClr val="000000"/>
                </a:solidFill>
                <a:latin typeface="Arial"/>
              </a:rPr>
              <a:t>	</a:t>
            </a:r>
            <a:r>
              <a:rPr b="0" lang="en-GB" sz="1200" spc="-1" strike="noStrike">
                <a:solidFill>
                  <a:srgbClr val="000000"/>
                </a:solidFill>
                <a:latin typeface="Calibri"/>
              </a:rPr>
              <a:t>0,32%</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L</a:t>
            </a:r>
            <a:r>
              <a:rPr b="0" lang="en-GB" sz="1000" spc="-1" strike="noStrike">
                <a:solidFill>
                  <a:srgbClr val="000000"/>
                </a:solidFill>
                <a:latin typeface="Arial"/>
              </a:rPr>
              <a:t>	</a:t>
            </a:r>
            <a:r>
              <a:rPr b="0" lang="en-GB" sz="1200" spc="-1" strike="noStrike">
                <a:solidFill>
                  <a:srgbClr val="000000"/>
                </a:solidFill>
                <a:latin typeface="Calibri"/>
              </a:rPr>
              <a:t>0,32%</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E</a:t>
            </a:r>
            <a:r>
              <a:rPr b="0" lang="en-GB" sz="1000" spc="-1" strike="noStrike">
                <a:solidFill>
                  <a:srgbClr val="000000"/>
                </a:solidFill>
                <a:latin typeface="Arial"/>
              </a:rPr>
              <a:t>	</a:t>
            </a:r>
            <a:r>
              <a:rPr b="0" lang="en-GB" sz="1200" spc="-1" strike="noStrike">
                <a:solidFill>
                  <a:srgbClr val="000000"/>
                </a:solidFill>
                <a:latin typeface="Calibri"/>
              </a:rPr>
              <a:t>0,16%</a:t>
            </a:r>
            <a:r>
              <a:rPr b="0" lang="en-GB" sz="1200" spc="-1" strike="noStrike">
                <a:solidFill>
                  <a:srgbClr val="000000"/>
                </a:solidFill>
                <a:latin typeface="Calibri"/>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t>
            </a:r>
            <a:r>
              <a:rPr b="0" lang="en-GB" sz="1000" spc="-1" strike="noStrike">
                <a:solidFill>
                  <a:srgbClr val="000000"/>
                </a:solidFill>
                <a:latin typeface="Arial"/>
              </a:rPr>
              <a:t>	</a:t>
            </a:r>
            <a:r>
              <a:rPr b="0" lang="en-GB" sz="1200" spc="-1" strike="noStrike">
                <a:solidFill>
                  <a:srgbClr val="000000"/>
                </a:solidFill>
                <a:latin typeface="Calibri"/>
              </a:rPr>
              <a:t>0,16%</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U Host Ctr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a:t>
            </a:r>
            <a:r>
              <a:rPr b="0" lang="en-GB" sz="1200" spc="-1" strike="noStrike">
                <a:solidFill>
                  <a:srgbClr val="000000"/>
                </a:solidFill>
                <a:latin typeface="Calibri"/>
              </a:rPr>
              <a:t>	</a:t>
            </a:r>
            <a:r>
              <a:rPr b="1" lang="en-GB" sz="1200" spc="-1" strike="noStrike">
                <a:solidFill>
                  <a:srgbClr val="000000"/>
                </a:solidFill>
                <a:latin typeface="Calibri"/>
              </a:rPr>
              <a:t>42,45%</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T</a:t>
            </a:r>
            <a:r>
              <a:rPr b="0" lang="en-GB" sz="1200" spc="-1" strike="noStrike">
                <a:solidFill>
                  <a:srgbClr val="000000"/>
                </a:solidFill>
                <a:latin typeface="Calibri"/>
              </a:rPr>
              <a:t>	</a:t>
            </a:r>
            <a:r>
              <a:rPr b="1" lang="en-GB" sz="1200" spc="-1" strike="noStrike">
                <a:solidFill>
                  <a:srgbClr val="000000"/>
                </a:solidFill>
                <a:latin typeface="Calibri"/>
              </a:rPr>
              <a:t>14,00%</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a:t>
            </a:r>
            <a:r>
              <a:rPr b="0" lang="en-GB" sz="1200" spc="-1" strike="noStrike">
                <a:solidFill>
                  <a:srgbClr val="000000"/>
                </a:solidFill>
                <a:latin typeface="Calibri"/>
              </a:rPr>
              <a:t>	</a:t>
            </a:r>
            <a:r>
              <a:rPr b="1" lang="en-GB" sz="1200" spc="-1" strike="noStrike">
                <a:solidFill>
                  <a:srgbClr val="000000"/>
                </a:solidFill>
                <a:latin typeface="Calibri"/>
              </a:rPr>
              <a:t>10,63%</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R</a:t>
            </a:r>
            <a:r>
              <a:rPr b="0" lang="en-GB" sz="1200" spc="-1" strike="noStrike">
                <a:solidFill>
                  <a:srgbClr val="000000"/>
                </a:solidFill>
                <a:latin typeface="Calibri"/>
              </a:rPr>
              <a:t>	</a:t>
            </a:r>
            <a:r>
              <a:rPr b="0" lang="en-GB" sz="1200" spc="-1" strike="noStrike">
                <a:solidFill>
                  <a:srgbClr val="000000"/>
                </a:solidFill>
                <a:latin typeface="Calibri"/>
              </a:rPr>
              <a:t>6,60%</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t>
            </a:r>
            <a:r>
              <a:rPr b="0" lang="en-GB" sz="1200" spc="-1" strike="noStrike">
                <a:solidFill>
                  <a:srgbClr val="000000"/>
                </a:solidFill>
                <a:latin typeface="Calibri"/>
              </a:rPr>
              <a:t>	</a:t>
            </a:r>
            <a:r>
              <a:rPr b="0" lang="en-GB" sz="1200" spc="-1" strike="noStrike">
                <a:solidFill>
                  <a:srgbClr val="000000"/>
                </a:solidFill>
                <a:latin typeface="Calibri"/>
              </a:rPr>
              <a:t>6,12%</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a:t>
            </a:r>
            <a:r>
              <a:rPr b="0" lang="en-GB" sz="1200" spc="-1" strike="noStrike">
                <a:solidFill>
                  <a:srgbClr val="000000"/>
                </a:solidFill>
                <a:latin typeface="Calibri"/>
              </a:rPr>
              <a:t>	</a:t>
            </a:r>
            <a:r>
              <a:rPr b="0" lang="en-GB" sz="1200" spc="-1" strike="noStrike">
                <a:solidFill>
                  <a:srgbClr val="000000"/>
                </a:solidFill>
                <a:latin typeface="Calibri"/>
              </a:rPr>
              <a:t>5,35%</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L</a:t>
            </a:r>
            <a:r>
              <a:rPr b="0" lang="en-GB" sz="1200" spc="-1" strike="noStrike">
                <a:solidFill>
                  <a:srgbClr val="000000"/>
                </a:solidFill>
                <a:latin typeface="Calibri"/>
              </a:rPr>
              <a:t>	</a:t>
            </a:r>
            <a:r>
              <a:rPr b="0" lang="en-GB" sz="1200" spc="-1" strike="noStrike">
                <a:solidFill>
                  <a:srgbClr val="000000"/>
                </a:solidFill>
                <a:latin typeface="Calibri"/>
              </a:rPr>
              <a:t>4,59%</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a:t>
            </a:r>
            <a:r>
              <a:rPr b="0" lang="en-GB" sz="1200" spc="-1" strike="noStrike">
                <a:solidFill>
                  <a:srgbClr val="000000"/>
                </a:solidFill>
                <a:latin typeface="Calibri"/>
              </a:rPr>
              <a:t>	</a:t>
            </a:r>
            <a:r>
              <a:rPr b="0" lang="en-GB" sz="1200" spc="-1" strike="noStrike">
                <a:solidFill>
                  <a:srgbClr val="000000"/>
                </a:solidFill>
                <a:latin typeface="Calibri"/>
              </a:rPr>
              <a:t>4,16%</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L</a:t>
            </a:r>
            <a:r>
              <a:rPr b="0" lang="en-GB" sz="1200" spc="-1" strike="noStrike">
                <a:solidFill>
                  <a:srgbClr val="000000"/>
                </a:solidFill>
                <a:latin typeface="Calibri"/>
              </a:rPr>
              <a:t>	</a:t>
            </a:r>
            <a:r>
              <a:rPr b="0" lang="en-GB" sz="1200" spc="-1" strike="noStrike">
                <a:solidFill>
                  <a:srgbClr val="000000"/>
                </a:solidFill>
                <a:latin typeface="Calibri"/>
              </a:rPr>
              <a:t>1,27%</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Z</a:t>
            </a:r>
            <a:r>
              <a:rPr b="0" lang="en-GB" sz="1200" spc="-1" strike="noStrike">
                <a:solidFill>
                  <a:srgbClr val="000000"/>
                </a:solidFill>
                <a:latin typeface="Calibri"/>
              </a:rPr>
              <a:t>	</a:t>
            </a:r>
            <a:r>
              <a:rPr b="0" lang="en-GB" sz="1200" spc="-1" strike="noStrike">
                <a:solidFill>
                  <a:srgbClr val="000000"/>
                </a:solidFill>
                <a:latin typeface="Calibri"/>
              </a:rPr>
              <a:t>1,27%</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U</a:t>
            </a:r>
            <a:r>
              <a:rPr b="0" lang="en-GB" sz="1200" spc="-1" strike="noStrike">
                <a:solidFill>
                  <a:srgbClr val="000000"/>
                </a:solidFill>
                <a:latin typeface="Calibri"/>
              </a:rPr>
              <a:t>	</a:t>
            </a:r>
            <a:r>
              <a:rPr b="0" lang="en-GB" sz="1200" spc="-1" strike="noStrike">
                <a:solidFill>
                  <a:srgbClr val="000000"/>
                </a:solidFill>
                <a:latin typeface="Calibri"/>
              </a:rPr>
              <a:t>0,87%</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a:t>
            </a:r>
            <a:r>
              <a:rPr b="0" lang="en-GB" sz="1200" spc="-1" strike="noStrike">
                <a:solidFill>
                  <a:srgbClr val="000000"/>
                </a:solidFill>
                <a:latin typeface="Calibri"/>
              </a:rPr>
              <a:t>	</a:t>
            </a:r>
            <a:r>
              <a:rPr b="0" lang="en-GB" sz="1200" spc="-1" strike="noStrike">
                <a:solidFill>
                  <a:srgbClr val="000000"/>
                </a:solidFill>
                <a:latin typeface="Calibri"/>
              </a:rPr>
              <a:t>0,84%</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K</a:t>
            </a:r>
            <a:r>
              <a:rPr b="0" lang="en-GB" sz="1200" spc="-1" strike="noStrike">
                <a:solidFill>
                  <a:srgbClr val="000000"/>
                </a:solidFill>
                <a:latin typeface="Calibri"/>
              </a:rPr>
              <a:t>	</a:t>
            </a:r>
            <a:r>
              <a:rPr b="0" lang="en-GB" sz="1200" spc="-1" strike="noStrike">
                <a:solidFill>
                  <a:srgbClr val="000000"/>
                </a:solidFill>
                <a:latin typeface="Calibri"/>
              </a:rPr>
              <a:t>0,59%</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a:t>
            </a:r>
            <a:r>
              <a:rPr b="0" lang="en-GB" sz="1200" spc="-1" strike="noStrike">
                <a:solidFill>
                  <a:srgbClr val="000000"/>
                </a:solidFill>
                <a:latin typeface="Calibri"/>
              </a:rPr>
              <a:t>	</a:t>
            </a:r>
            <a:r>
              <a:rPr b="0" lang="en-GB" sz="1200" spc="-1" strike="noStrike">
                <a:solidFill>
                  <a:srgbClr val="000000"/>
                </a:solidFill>
                <a:latin typeface="Calibri"/>
              </a:rPr>
              <a:t>0,48%</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R</a:t>
            </a:r>
            <a:r>
              <a:rPr b="0" lang="en-GB" sz="1200" spc="-1" strike="noStrike">
                <a:solidFill>
                  <a:srgbClr val="000000"/>
                </a:solidFill>
                <a:latin typeface="Calibri"/>
              </a:rPr>
              <a:t>	</a:t>
            </a:r>
            <a:r>
              <a:rPr b="0" lang="en-GB" sz="1200" spc="-1" strike="noStrike">
                <a:solidFill>
                  <a:srgbClr val="000000"/>
                </a:solidFill>
                <a:latin typeface="Calibri"/>
              </a:rPr>
              <a:t>0,28%</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t>
            </a:r>
            <a:r>
              <a:rPr b="0" lang="en-GB" sz="1200" spc="-1" strike="noStrike">
                <a:solidFill>
                  <a:srgbClr val="000000"/>
                </a:solidFill>
                <a:latin typeface="Calibri"/>
              </a:rPr>
              <a:t>	</a:t>
            </a:r>
            <a:r>
              <a:rPr b="0" lang="en-GB" sz="1200" spc="-1" strike="noStrike">
                <a:solidFill>
                  <a:srgbClr val="000000"/>
                </a:solidFill>
                <a:latin typeface="Calibri"/>
              </a:rPr>
              <a:t>0,18%</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a:t>
            </a:r>
            <a:r>
              <a:rPr b="0" lang="en-GB" sz="1200" spc="-1" strike="noStrike">
                <a:solidFill>
                  <a:srgbClr val="000000"/>
                </a:solidFill>
                <a:latin typeface="Calibri"/>
              </a:rPr>
              <a:t>	</a:t>
            </a:r>
            <a:r>
              <a:rPr b="0" lang="en-GB" sz="1200" spc="-1" strike="noStrike">
                <a:solidFill>
                  <a:srgbClr val="000000"/>
                </a:solidFill>
                <a:latin typeface="Calibri"/>
              </a:rPr>
              <a:t>0,15%</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K</a:t>
            </a:r>
            <a:r>
              <a:rPr b="0" lang="en-GB" sz="1200" spc="-1" strike="noStrike">
                <a:solidFill>
                  <a:srgbClr val="000000"/>
                </a:solidFill>
                <a:latin typeface="Calibri"/>
              </a:rPr>
              <a:t>	</a:t>
            </a:r>
            <a:r>
              <a:rPr b="0" lang="en-GB" sz="1200" spc="-1" strike="noStrike">
                <a:solidFill>
                  <a:srgbClr val="000000"/>
                </a:solidFill>
                <a:latin typeface="Calibri"/>
              </a:rPr>
              <a:t>0,08%</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a:t>
            </a:r>
            <a:r>
              <a:rPr b="0" lang="en-GB" sz="1200" spc="-1" strike="noStrike">
                <a:solidFill>
                  <a:srgbClr val="000000"/>
                </a:solidFill>
                <a:latin typeface="Calibri"/>
              </a:rPr>
              <a:t>	</a:t>
            </a:r>
            <a:r>
              <a:rPr b="0" lang="en-GB" sz="1200" spc="-1" strike="noStrike">
                <a:solidFill>
                  <a:srgbClr val="000000"/>
                </a:solidFill>
                <a:latin typeface="Calibri"/>
              </a:rPr>
              <a:t>0,03%</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a:t>
            </a:r>
            <a:r>
              <a:rPr b="0" lang="en-GB" sz="1200" spc="-1" strike="noStrike">
                <a:solidFill>
                  <a:srgbClr val="000000"/>
                </a:solidFill>
                <a:latin typeface="Calibri"/>
              </a:rPr>
              <a:t>	</a:t>
            </a:r>
            <a:r>
              <a:rPr b="0" lang="en-GB" sz="1200" spc="-1" strike="noStrike">
                <a:solidFill>
                  <a:srgbClr val="000000"/>
                </a:solidFill>
                <a:latin typeface="Calibri"/>
              </a:rPr>
              <a:t>0,03%</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a:t>
            </a:r>
            <a:r>
              <a:rPr b="0" lang="en-GB" sz="1200" spc="-1" strike="noStrike">
                <a:solidFill>
                  <a:srgbClr val="000000"/>
                </a:solidFill>
                <a:latin typeface="Calibri"/>
              </a:rPr>
              <a:t>	</a:t>
            </a:r>
            <a:r>
              <a:rPr b="0" lang="en-GB" sz="1200" spc="-1" strike="noStrike">
                <a:solidFill>
                  <a:srgbClr val="000000"/>
                </a:solidFill>
                <a:latin typeface="Calibri"/>
              </a:rPr>
              <a:t>0,03%</a:t>
            </a:r>
            <a:r>
              <a:rPr b="0" lang="en-GB"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6"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17B6-9008-45BB-B2E5-2C1E44B205F6}"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966960" y="743040"/>
            <a:ext cx="4951080" cy="3713040"/>
          </a:xfrm>
          <a:prstGeom prst="rect">
            <a:avLst/>
          </a:prstGeom>
          <a:ln w="0">
            <a:noFill/>
          </a:ln>
        </p:spPr>
      </p:sp>
      <p:sp>
        <p:nvSpPr>
          <p:cNvPr id="1238"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lgunas preguntas que invitan a la reflexión… /A modo de conclusion os invito a reflexionar y debatir mañana en los taller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f5494"/>
                </a:solidFill>
                <a:latin typeface="Arial"/>
              </a:rPr>
              <a:t>El participar en un proyecto de EM ha ofrecido muchas posibilidades a las universidades de invertir en una trayectoria internacional; de obtener resultados; de entablar acuerdos para trabjar conjuntamente….</a:t>
            </a:r>
            <a:endParaRPr b="0" lang="en-US" sz="1200" spc="-1" strike="noStrike">
              <a:solidFill>
                <a:srgbClr val="000000"/>
              </a:solidFill>
              <a:latin typeface="Arial"/>
            </a:endParaRPr>
          </a:p>
        </p:txBody>
      </p:sp>
      <p:sp>
        <p:nvSpPr>
          <p:cNvPr id="1239"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CCD2-3C52-4EA2-A263-307AB989FADB}"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966960" y="743040"/>
            <a:ext cx="4951080" cy="3713040"/>
          </a:xfrm>
          <a:prstGeom prst="rect">
            <a:avLst/>
          </a:prstGeom>
          <a:ln w="0">
            <a:noFill/>
          </a:ln>
        </p:spPr>
      </p:sp>
      <p:sp>
        <p:nvSpPr>
          <p:cNvPr id="1193"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l programa abarca tres tipos de accion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movilidad para realizar una maestría o doctorado conjun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movilidad para realizar una estancia en otra universidad bajo cualquier tipo de nivel de estudio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ejecución de proyectos para apoyar </a:t>
            </a:r>
            <a:r>
              <a:rPr b="0" lang="es-ES" sz="1200" spc="-1" strike="noStrike">
                <a:solidFill>
                  <a:srgbClr val="000000"/>
                </a:solidFill>
                <a:latin typeface="Arial"/>
              </a:rPr>
              <a:t>iniciativas transnacionales, eventos, estudios y otras actividades que: fomenten la educación superior europea y que aborden los problemas de la cooperación internacional de educación superior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4"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F5B83-9035-4844-9F10-A6D961C9D57F}"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966960" y="743040"/>
            <a:ext cx="4951080" cy="3713040"/>
          </a:xfrm>
          <a:prstGeom prst="rect">
            <a:avLst/>
          </a:prstGeom>
          <a:ln w="0">
            <a:noFill/>
          </a:ln>
        </p:spPr>
      </p:sp>
      <p:sp>
        <p:nvSpPr>
          <p:cNvPr id="1196"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el marco de la Acción 2 – Partenaria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total de 277 partenariados han sido constituidos a nivel mund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altan las mil cuatrocientas veinti una diferentes universidades involucradas en este escenario que han logrado moviliazar 44.490 entre estudiantes y personal académico y administrativ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7"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58E2-7C40-45BB-91F3-2059928ECB47}"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966960" y="743040"/>
            <a:ext cx="4951080" cy="3713040"/>
          </a:xfrm>
          <a:prstGeom prst="rect">
            <a:avLst/>
          </a:prstGeom>
          <a:ln w="0">
            <a:noFill/>
          </a:ln>
        </p:spPr>
      </p:sp>
      <p:sp>
        <p:nvSpPr>
          <p:cNvPr id="1199"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Si a estas cifras añadimos los proyectos recien seleccionados (2014) estaríamos hablando de un total de 53 partenariados entre países de la UE y de América Latina constituidos a lo largo del programa desde 2008 hasta hoy.</a:t>
            </a:r>
            <a:endParaRPr b="0" lang="en-US" sz="1200" spc="-1" strike="noStrike">
              <a:solidFill>
                <a:srgbClr val="000000"/>
              </a:solidFill>
              <a:latin typeface="Arial"/>
            </a:endParaRPr>
          </a:p>
        </p:txBody>
      </p:sp>
      <p:sp>
        <p:nvSpPr>
          <p:cNvPr id="1200"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FB8D-C61C-43B9-8CA1-EC6937AE5CBD}"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966960" y="743040"/>
            <a:ext cx="4951080" cy="3713040"/>
          </a:xfrm>
          <a:prstGeom prst="rect">
            <a:avLst/>
          </a:prstGeom>
          <a:ln w="0">
            <a:noFill/>
          </a:ln>
        </p:spPr>
      </p:sp>
      <p:sp>
        <p:nvSpPr>
          <p:cNvPr id="1202"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quí tenemos un ejempl de algunos de estos partenariados….</a:t>
            </a:r>
            <a:endParaRPr b="0" lang="en-US" sz="1200" spc="-1" strike="noStrike">
              <a:solidFill>
                <a:srgbClr val="000000"/>
              </a:solidFill>
              <a:latin typeface="Arial"/>
            </a:endParaRPr>
          </a:p>
        </p:txBody>
      </p:sp>
      <p:sp>
        <p:nvSpPr>
          <p:cNvPr id="1203"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9C14-2F45-4B43-BEA4-3E3F1A75A388}"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966960" y="743040"/>
            <a:ext cx="4951080" cy="3713040"/>
          </a:xfrm>
          <a:prstGeom prst="rect">
            <a:avLst/>
          </a:prstGeom>
          <a:ln w="0">
            <a:noFill/>
          </a:ln>
        </p:spPr>
      </p:sp>
      <p:sp>
        <p:nvSpPr>
          <p:cNvPr id="1205"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s prioridades definidas para esta programa y en particular en la región de América Latina implican alcanzar objetivos que suponen, por veces dasafios para lograr obtener resultados así como generar un impa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6"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6379A-5FA4-4F70-891C-F05FC4036985}"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966960" y="743040"/>
            <a:ext cx="4951080" cy="3713040"/>
          </a:xfrm>
          <a:prstGeom prst="rect">
            <a:avLst/>
          </a:prstGeom>
          <a:ln w="0">
            <a:noFill/>
          </a:ln>
        </p:spPr>
      </p:sp>
      <p:sp>
        <p:nvSpPr>
          <p:cNvPr id="1208"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ecer la participación de Uniersidades ubicadas en areas menos desarrollada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ra prioridad/objetivo es contribuir a ofrecer a buenos alumnos de los grupos vulnerables (es decir, refugiados, pueblos indígenas…) una Educación continua y el desarrollo profesional que les capacite como líde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mbién se ha buscado favorecer la participación de estudiantes con buen mérito académico y en condiciones de desventaja socio-económica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9"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A5CA-C306-44D0-A975-13E20BD3D7AA}"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966960" y="743040"/>
            <a:ext cx="4951080" cy="3713040"/>
          </a:xfrm>
          <a:prstGeom prst="rect">
            <a:avLst/>
          </a:prstGeom>
          <a:ln w="0">
            <a:noFill/>
          </a:ln>
        </p:spPr>
      </p:sp>
      <p:sp>
        <p:nvSpPr>
          <p:cNvPr id="1211"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La prioridad para esta región de América Latina relativa a la cobertura geográfica ha estimulado la incorporación, en los partenariados, de universidades de menor tamaño y sobre todo de áreas geográficas periféricas que normalmente no estan presentes en estos program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En el caso de Argentina, por ejemplo, se ha logrado incluir universidades remotas que han podido aprovechar la dinámica y experiencia de las universidades mas grandes</a:t>
            </a:r>
            <a:endParaRPr b="0" lang="en-US" sz="1200" spc="-1" strike="noStrike">
              <a:solidFill>
                <a:srgbClr val="000000"/>
              </a:solidFill>
              <a:latin typeface="Arial"/>
            </a:endParaRPr>
          </a:p>
        </p:txBody>
      </p:sp>
      <p:sp>
        <p:nvSpPr>
          <p:cNvPr id="1212" name="Espace réservé du numéro de diapositive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50C3-3BBC-4397-8249-009AC7CA4502}"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966960" y="743040"/>
            <a:ext cx="4951080" cy="3713040"/>
          </a:xfrm>
          <a:prstGeom prst="rect">
            <a:avLst/>
          </a:prstGeom>
          <a:ln w="0">
            <a:noFill/>
          </a:ln>
        </p:spPr>
      </p:sp>
      <p:sp>
        <p:nvSpPr>
          <p:cNvPr id="1214" name="PlaceHolder 2"/>
          <p:cNvSpPr>
            <a:spLocks noGrp="1"/>
          </p:cNvSpPr>
          <p:nvPr>
            <p:ph type="body"/>
          </p:nvPr>
        </p:nvSpPr>
        <p:spPr>
          <a:xfrm>
            <a:off x="687240" y="4704840"/>
            <a:ext cx="550872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Muchos de los sistemas de educación superior latinoamericanos se enfrentan a retos considerables, como por ejemplo la necesidad de desarrollar los recursos humanos con el fin de mejorar la calidad académica. La incapacidad de producir individuos quilificados se ve agravada por la fuga de cerebros, que reduce la capacidad de las regiones para competir en la economía global y el desarrollo de una sociedad basada cada vez mas en el conoci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El programa  EM ha querido retar estas dificultades y dar la oportunidad a miles de estudiantes y de personal académico de estudiar en Europa, contribuyendo de esta forma a mejorar el nivel de recursos humanos….Al tiempo que las instituciones de donde provienen tienen la oportunidad de intervenir en una escena internac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partenariados de EM-AL han enfrentado el desafío de desarrollar una cooperación eficiente y eficaz a nivel de la educación superior en un escenario regional muy diferenciado de un país al otro. La cooperación ha demostrado ser exitosa con una motivación extraordinaria proveniente de todos por el bien e interés de los estudiantes y las instituciones involucr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Se observa cómo el proceso de internacionalización es un punto prioritario en la agenda de todas las IES en AL, desde los más pequeños con menos experiencia a los mas grandes con mas experi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5" name="Slide Number Placeholder 3"/>
          <p:cNvSpPr/>
          <p:nvPr/>
        </p:nvSpPr>
        <p:spPr>
          <a:xfrm>
            <a:off x="3898800" y="9408960"/>
            <a:ext cx="298296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98AC-F481-4595-A74B-28D66BC30B0B}" type="slidenum">
              <a:rPr b="0" lang="en-GB" sz="1200" spc="-1" strike="noStrike">
                <a:solidFill>
                  <a:srgbClr val="000000"/>
                </a:solidFill>
                <a:latin typeface="Arial"/>
                <a:ea typeface="Arial"/>
              </a:rPr>
              <a:t>&lt;number&gt;</a:t>
            </a:fld>
            <a:endParaRPr b="1" lang="en-US" sz="1200" spc="-1" strike="noStrike">
              <a:solidFill>
                <a:srgbClr val="ffd62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4F526-5593-45B0-80C6-5A2053B95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531EE-53CB-4FED-8268-15ED3C798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6CAA745-D148-49F6-9D2F-D8823B340D8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2DC5E2F-C83B-47AC-A3CC-E6932231C6C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328A6F9-34E6-47E4-92AC-F6AE2D1FABF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434B0A0-9676-42F4-B1E9-44A828D6DBD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61050FA-645B-47DF-B82E-2FF3A5B1350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58DC066-0882-422E-AEEE-3FF4FB49584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7"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687BB13-B302-4A7D-B19D-155D86377F5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A84EAF7-0400-4165-8D92-FDDAD1BD9F3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B931F5BC-AE43-402E-9909-7EDD1310600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29B199E-A837-43D1-8984-AA8789809C3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9CCD7-4CA5-4335-AC7A-2DFCD9216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21E5786-DDCC-4FA3-804E-E798F5A5D51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F5D70AF-BF8D-48AD-8466-AEB87BBB686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54E35280-A989-4DC3-98AC-D57F2789A2F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6811344-F7F3-428B-A169-FB16EC394DB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453321D5-3809-4197-811F-34ED63ABFB5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7"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A33BC47-95EE-4E8F-9827-CA1669A6258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08BB973-945F-4BE3-85B8-A2ACF26F3FB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68ACEDC-B9C9-4ADA-9FC6-C289F052608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A116EAE-C99D-4F9E-AECC-E8D66D44819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3"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62EC195-91E2-458A-B6AF-A2B6AA5CA38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E2D20-9DF6-40CF-AEA2-1F94254C5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B9B703F9-338D-458A-B863-6BAE39C2E471}"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D2B6D87-1E5B-4CE5-B0B1-E16EBBF0DB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CE846C2-7F8E-455F-9831-1EAD78B220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77B54A8-60C1-4452-BC8A-2DB40D20CE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2EB80D47-E247-4EDA-8B69-28D1E18001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C3E4EEA-771B-4546-85B2-5BE4E70213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710C5BC-901C-4E5D-920C-CBE3DE65C4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F54561E-99AD-4512-B29F-35CEF43402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926C41E-ACBD-4C2F-B81D-66F43A1413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6"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59F6F1C-22F4-4AD0-9892-266339D489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7B81D4-0038-4916-9BB1-710549971B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9"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02FF42A-5038-452E-8ADE-815BA1E7E3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4A7176D-16E9-4452-B5D0-B3297EE783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7"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0"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305DFBF-99E8-4499-8BAF-0317EFBB703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742ADB7-C6F1-4B9A-96DA-E31BDCD3D7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3ACD260-0380-4FAA-859E-1B8A58D132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17470A35-2919-4EF7-9D26-77C46B57EE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C8949F6-0625-42A0-93EB-2F4C5C6B6F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0DB3954-AE52-4746-9A94-2016E41EAF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D332132-5194-4957-B86C-062310FF7D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7DFBB39-E109-4A86-A0A1-5C28BDCD71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C5AFFA-028F-421F-B93F-A0FEBF866C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80C79D7-D386-4F53-AAEC-9F5330FAE7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7"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7DF8819-9AF7-44DE-93D7-AC420A02CDB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0"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A74589C-6A7A-4AC2-8B71-BB2EBDAA93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5"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D7043865-D696-494F-A12B-06A80BD321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9"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D20BF73C-2321-4AB8-9F29-0CB818818C7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8DDD1DAC-F043-4278-A091-9A086369EF8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E2E54C4-C348-467B-888F-923D04525A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5A661E99-5946-4CA6-94B5-C24D004D21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2CA0525-B50E-4FF6-963D-72B15F3BBA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F890B79-8A59-4AC6-B855-FDAAAA4363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84D343-303F-4995-B3B5-D124527BF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FEC5FC96-E29C-40DC-941D-C2AADA1A28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F438CFA-E912-4697-8C51-6D0971808EF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C059C1C-D5A7-4D9D-AE91-D862D596EF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8"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B01A52D-6E78-47F3-B427-1E6D708101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1"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690466A-DC49-4A3A-9611-B13A26004C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AB486D6-9030-4A34-A089-36A33A7048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0"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1"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2"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D0FC71F-8878-49E6-A107-60D687D41B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94EA1DB1-8B1B-4A6F-92A6-427E4D55E04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D464B571-17EC-4942-BEE3-F31CF78B0A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79CDFB7-5D4D-4AF3-A4C0-723B46E165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502BDC-E11D-476D-A703-AC8CD641B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3520EA4-6057-4FC2-9E56-9B284553827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6EA3A476-8264-41EE-995E-3CEEE02ECE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A181EC25-3D94-44EA-BB25-D2A075343F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39E7B50-703A-477F-A5CA-393C034521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5"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C35CF3F-30F2-4879-8913-1EDD8CFA4C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1"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389C0BC-8F06-4D61-AB09-BB04AA89F4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F594447-03AD-4156-ACE5-6F8584E8F1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7F0E2DDE-0BA4-409E-B388-0F0C1C09AE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3"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CA28F240-BA36-44FF-8F5E-097F77102EB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44015CE1-58E8-4DD5-8589-12B347A9CCA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9592E-9DDA-4808-AA03-6C61DC579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0E90A77-D7D8-46C2-8BC2-DDCFBA2E84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3468CE4-5815-44F0-99B7-6E8748C459D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DFCE95C-740E-488C-B037-77B428DB98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9D898179-6D99-4FEE-9637-2B9B454373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E6C5509-7FD6-452F-B2AD-B33FAD1F09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123A016-7E0A-40B3-BB4B-1302C0833A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3F50878-64A5-4841-9047-1A58703E95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B63A469-337C-43E9-8C9E-0C3278DB6E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22452E3-CFE7-45D6-B82D-B2E155CE7C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1"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5383E629-F6FE-4B3D-A7E2-08454CF08A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C6717-176C-49C8-830A-2445A95BD2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4"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5"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7"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8"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B2BB2F5-59BD-4AEE-BA23-62023716414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9B7D0884-E183-4BBA-991C-3948E94247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5AAB2716-AB45-4EC1-ADA4-17ABE98FE3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D2170869-253E-42CD-89C3-1A485069F3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108353A-6F0D-40CE-A6D9-9BA09E953F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67498A77-91B3-4885-BFA9-92EFC13D03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C33C0D95-FF7B-4F20-9582-6D9B5674C9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910D9B7-D102-4A0B-B62F-AC09A729FF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2"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10F29710-FE70-400C-9E3C-C5E50BC14B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6"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FE2757AE-5C9D-442D-B3FE-06A78A1166F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E9D6B-9653-4BEA-8BE6-B04BC34E2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9"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2BCB550E-736B-428E-82DD-A099FA4FE2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4"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2ADEEEFA-E11D-4E85-B18A-6605499287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7"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8"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9"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0"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1"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D22DD434-70C3-4BA6-BB67-094B9532729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EAF863FA-DF7D-458A-BBDA-DF48EEA617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7651D7BD-CFCD-4EC8-B753-F223DA5099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1"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4B171FA1-14EE-4094-B7D8-890457BAF0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98B7A1A-03E9-44D2-9AEB-D12C46492A8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6FD3C566-8AB9-43C8-B0F8-3ADDA348D5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DBF3681-BDCC-465C-93A2-67FA8C3C4A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EEF0FC9-00E7-4398-96B6-214D2CFD92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76038-123B-43E9-8854-8405E5165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8EADD-46B5-48C3-8D8D-127AB3615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4"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55FCF8C-022D-4712-A557-195ACF4F9F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8"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2028DEC-C3A4-44B7-A83A-1D93C47432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0"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1"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49C2DFD-D7C1-4C9B-AFFB-F3B22AD514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6"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012D1F68-23A9-4DD8-AAEB-6FCDF862B7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8"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9"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0"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1"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2"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177362DD-C1ED-4499-B398-EBD83BB0BD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7BB1288D-381C-4791-9C75-4E2DDB21A451}"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1"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8DC202CF-4460-452C-B1D8-303CCE85CA9F}"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2E8E71C-7A3C-4EE7-B7E7-95B186D0936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5"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6"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B597D325-286F-4BC9-A536-B914E8A20ACC}"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F293074-E6C2-4EF4-968B-C212BFCFE16D}"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F1760-7130-493F-9678-01859CEF2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077BE091-86CE-49E5-8C4F-FE173FC17FB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1"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2"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83DF2CF5-3C77-487D-9A16-3B20C338D47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6"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6DE2D0B-728D-49D8-8829-65B5C9CA40A1}"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0"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3B9A246-4867-4BE0-8FC6-89EF9E2EDF8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2"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3"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2BA76A4A-D62E-4824-AA8D-636A7704E919}"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7"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8"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16792462-217E-4071-A1FB-0C6D91D4E1A9}"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1"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2"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3"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4"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5"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61D3495D-65A8-4042-A16D-0040F5C78117}"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68FE8A12-84FD-417D-B5B3-F232D644DFAA}"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3"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7E3B4215-492D-43BD-9976-B8240F8AA5EA}"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6F553492-4DAD-48ED-9C34-686CCB8C5471}"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F9084-B725-4809-8E54-3B2BCD202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19EFD95D-F2F1-4C3F-ACF1-4516B060F5DA}"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250497D5-2EBB-49D7-93A6-4E651226399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872C5A56-8ADD-4F00-8AB3-E6C47F9CED55}"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061BAD2-08DE-43F8-BE9E-05F3AE3D921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8"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0E41EBB-5D2F-4F30-8E85-46C44A7FAC33}"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2"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9C776E3-F634-4ECD-A568-4EE3D778627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5"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ABBF6B04-0ECC-4D1A-BE93-1A92F7322B8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0"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B137B974-9E47-4542-A3EF-47F7B4478E9C}"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2"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3"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4"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5"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6"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7"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DB8AAAA1-AE6A-40D2-88A0-9CAA141701AF}"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8EE5BD72-6E99-4CC0-94D7-CFDA94357928}"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C1DA4E-2072-4027-892B-0F682D4DF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DD66780C-3744-489C-8851-6A7E4DB780EE}"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7"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E4B1DC63-40CA-4E25-A3E5-547C21F87FC3}"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0"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9331977-61D9-4C1B-A531-86D5BF3C3594}"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0A5AFF46-1896-4E85-9F67-BF103699D5A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D3F7D207-094E-4E7E-9458-38ADFCD256EE}"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5"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6"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43D3B030-3D72-4BCB-AFF7-C9144D0A8BC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0"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F82341A-0206-4318-8614-29F29CD20402}"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4"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33F410C5-2D27-48E3-AB5C-E7A8533E4A7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3F9BF451-2CE2-488E-A3D5-ED239CF1C4ED}"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2"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1687A6D3-2A1D-4C58-83A3-86B39EA6FAD2}"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BA6E57-3207-4E55-B8FB-E3DAF539CE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5"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6"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7"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8"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E41C58A0-78E6-4A39-AE0A-7DF5081AA4C6}"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13B53659-53A2-4DA9-A6F6-ED835E748E43}"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A11AD20F-63D2-41A3-ADC2-58E91BE33C64}"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9"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4A410E7E-2944-4CB0-8A36-34BD71560772}"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60D10A7E-5488-4345-B0B9-C7A39C1C196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CB957EE5-6F8C-436F-9B73-00019BAB9D60}"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4"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FB36CFDA-1D44-4607-8ADF-1F6BB60B9404}"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EDE7F4DE-0C76-4C36-941E-63A44F210ADC}"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2"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E41D09D0-2FB2-4FB0-AF77-6E61E05DF496}"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6"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E3B66D8-024E-453A-9A03-D072D0E7CDF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174C97B-B2C0-4D8A-8EA6-A834D86934D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9"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65C9F447-8E44-4C7A-AA86-49CC24E39C37}"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4"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22F5FCEB-197F-42FF-BDA2-FF0741DD3595}"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6"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7"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9"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0"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1"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DA925D34-7AC2-4ACB-A076-2C3CF457EFD1}"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04C09AA6-BFF7-4DCA-BC50-B0F6EEF6A2FA}"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9"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C92DFBD1-2128-4511-BB13-ACF7F9599B56}"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0F9A7FDB-FB63-4056-95F1-02BE0E28C6F1}"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3"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2770181A-C7CE-48E5-8D63-94C9BBE9874B}"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25630149-95E7-4749-ABDA-E6A4F019BAF7}"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92C1C9B-A575-4565-83C7-62CE41529349}"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729703F2-1092-46B6-AD91-BB2832A3C4D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36F0AF8D-8EF3-4C58-808A-B4D4DC7A5D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4"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01445DA-3879-43CA-BC04-0A1713B9CA0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8"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10E7B2EF-4ECA-4AFF-95F0-1F47FEC511BD}"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1"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F249FA8-2BB8-41C9-AA2F-74C9E0A22555}"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6"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ADC17AEE-4935-465D-8512-328A1C8E42B2}"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8"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9"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0"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1"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2"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3"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9ED32E6A-F25E-4156-A933-19B80FC178A8}"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F2B8761F-6858-4480-AB05-C5907A7EA336}"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1"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0E78AF29-CD54-4994-9638-0B841BCF5086}"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7E383A7C-E5D1-4A9A-AAF7-51061DCF78A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5"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6"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6BF36E82-F5CD-4EB1-8F9E-41C827863A6A}"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E355FFD3-3A98-4291-861E-9C1010E96939}"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8"/>
          </p:nvPr>
        </p:nvSpPr>
        <p:spPr/>
        <p:txBody>
          <a:bodyPr/>
          <a:p>
            <a:fld id="{8FE91CEA-DE97-437A-B844-2568B9C692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8"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AD5949E-85C3-4C77-AB57-CAA5F6C4B97D}"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1"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2"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2D508C64-B427-4916-B847-8CA4979F658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6"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2168872-BEF2-4D0F-9E57-9BB769BCE8A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0"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593E9036-29C0-4791-856B-4A5995590C0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3"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FFA65B0C-3F22-4DA3-84D0-69694C067BF8}"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7"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8"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699433A6-8F93-4934-B473-A2D8D3A124B5}"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0"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1"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2"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3"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4"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5"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98AEBC64-E0D3-46BE-B4E2-A06BA2F35A5C}"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80348412-33E8-42B9-B2FA-88FE41085CAF}"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56158344-B4B0-4EEC-AC9D-AB804BBE4A6C}"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5"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C047010-961F-43C1-BF6F-E9BCA30B01A7}"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5939BEF9-6632-4660-81D1-2F88D12E24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EF527F6B-079D-426D-92DA-B7EF79FAF8C5}"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4BAFA50B-E3A1-4288-854D-F25FA2EBEEF4}"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5C467376-9D57-4A14-8E1C-6B0250F4C8DF}"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846C085-4775-4726-BBD8-488B6FDF38A1}"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8"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1BE9799-F9AA-4F4F-A9A9-B5E5DB9F3663}"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2"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BC3BD241-CC7A-46C4-A59D-DAF9446DD603}"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4"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5"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BDB62F64-FF51-4F5A-8A36-60DA8F731A2F}"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0"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E4B6CC60-7390-49A0-A84E-3C490FB208A0}"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2"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3"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4"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5"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6"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7"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F3803A61-37D4-40C5-AE9C-1857C0ED7E52}"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6CCB5424-99A6-4FF3-87B8-8A4EE4A820CE}"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14591FDE-462E-4DAD-8D05-E3C07B639CB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0AAF697E-5EC7-4D05-A7BE-B847C4A0B50C}"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7"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C8997179-B03A-4768-A660-24ECD09C54A1}"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06F2565A-7F67-428D-BDF5-7CB1FAD069BC}"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D4833BAB-D62B-4208-8CFD-8F73F921A1A8}"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F43BAE1F-FBC8-45D6-BC6A-76633825DEFF}"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5"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6"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86192B63-A046-453F-9B91-CA7F78243359}"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8"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0"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75FF77E8-4713-4100-B688-52E71D221AFC}"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4"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FD5CE0E4-66AC-44A5-9187-CD40E08917FE}"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6"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7"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801C317D-C161-4858-AA9A-747C6FDABFEE}"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1"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2"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54106D8E-B7E2-4BC3-BB05-C8CFB0871843}"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A1908-7D70-4960-BF00-08ADA3072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8"/>
          </p:nvPr>
        </p:nvSpPr>
        <p:spPr/>
        <p:txBody>
          <a:bodyPr/>
          <a:p>
            <a:fld id="{62A1D85D-E9BC-42DA-9F38-F120B53339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4"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5"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6"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7"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8"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9"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1422BFC8-EA52-4857-BCAF-A7B02298576F}"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A71FB4D7-B51D-4C63-A412-5F1A742018CE}" type="slidenum">
              <a:t>&lt;#&gt;</a:t>
            </a:fld>
          </a:p>
        </p:txBody>
      </p:sp>
      <p:sp>
        <p:nvSpPr>
          <p:cNvPr id="3" name="PlaceHolder 2"/>
          <p:cNvSpPr>
            <a:spLocks noGrp="1"/>
          </p:cNvSpPr>
          <p:nvPr>
            <p:ph type="dt" idx="74"/>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7"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5"/>
          </p:nvPr>
        </p:nvSpPr>
        <p:spPr/>
        <p:txBody>
          <a:bodyPr/>
          <a:p>
            <a:fld id="{4BE1D7AA-6828-48EF-982A-FA00BA2028F8}"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9"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75"/>
          </p:nvPr>
        </p:nvSpPr>
        <p:spPr/>
        <p:txBody>
          <a:bodyPr/>
          <a:p>
            <a:fld id="{ED6A30A5-AB13-42EB-B288-81993A5F96CF}" type="slidenum">
              <a:t>&lt;#&gt;</a:t>
            </a:fld>
          </a:p>
        </p:txBody>
      </p:sp>
      <p:sp>
        <p:nvSpPr>
          <p:cNvPr id="5" name="PlaceHolder 4"/>
          <p:cNvSpPr>
            <a:spLocks noGrp="1"/>
          </p:cNvSpPr>
          <p:nvPr>
            <p:ph type="dt" idx="74"/>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1"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5"/>
          </p:nvPr>
        </p:nvSpPr>
        <p:spPr/>
        <p:txBody>
          <a:bodyPr/>
          <a:p>
            <a:fld id="{09071906-3DF4-48FA-BAFD-5E559529F98B}"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75"/>
          </p:nvPr>
        </p:nvSpPr>
        <p:spPr/>
        <p:txBody>
          <a:bodyPr/>
          <a:p>
            <a:fld id="{ED4051CA-0315-43D3-BA8C-C6941C3909A5}"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4"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75"/>
          </p:nvPr>
        </p:nvSpPr>
        <p:spPr/>
        <p:txBody>
          <a:bodyPr/>
          <a:p>
            <a:fld id="{9EE3A027-B1A2-4CBC-9CB9-B6C32CEA2ECA}" type="slidenum">
              <a:t>&lt;#&gt;</a:t>
            </a:fld>
          </a:p>
        </p:txBody>
      </p:sp>
      <p:sp>
        <p:nvSpPr>
          <p:cNvPr id="4" name="PlaceHolder 3"/>
          <p:cNvSpPr>
            <a:spLocks noGrp="1"/>
          </p:cNvSpPr>
          <p:nvPr>
            <p:ph type="dt" idx="74"/>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5"/>
          </p:nvPr>
        </p:nvSpPr>
        <p:spPr/>
        <p:txBody>
          <a:bodyPr/>
          <a:p>
            <a:fld id="{EFE3CEC6-05ED-45AC-978A-050B918F8A71}"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2"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5"/>
          </p:nvPr>
        </p:nvSpPr>
        <p:spPr/>
        <p:txBody>
          <a:bodyPr/>
          <a:p>
            <a:fld id="{57AF3056-100E-42E4-95AE-8B29A15A66DC}"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6"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75"/>
          </p:nvPr>
        </p:nvSpPr>
        <p:spPr/>
        <p:txBody>
          <a:bodyPr/>
          <a:p>
            <a:fld id="{93673F3C-C3E9-4EDD-910A-9D86B17B3692}" type="slidenum">
              <a:t>&lt;#&gt;</a:t>
            </a:fld>
          </a:p>
        </p:txBody>
      </p:sp>
      <p:sp>
        <p:nvSpPr>
          <p:cNvPr id="7" name="PlaceHolder 6"/>
          <p:cNvSpPr>
            <a:spLocks noGrp="1"/>
          </p:cNvSpPr>
          <p:nvPr>
            <p:ph type="dt" idx="7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70D61BAD-CC7F-42C0-AD5C-ADD4E68856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8"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9"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75"/>
          </p:nvPr>
        </p:nvSpPr>
        <p:spPr/>
        <p:txBody>
          <a:bodyPr/>
          <a:p>
            <a:fld id="{0830A6B9-9CD2-4471-BD89-C27CCA6234AB}" type="slidenum">
              <a:t>&lt;#&gt;</a:t>
            </a:fld>
          </a:p>
        </p:txBody>
      </p:sp>
      <p:sp>
        <p:nvSpPr>
          <p:cNvPr id="6" name="PlaceHolder 5"/>
          <p:cNvSpPr>
            <a:spLocks noGrp="1"/>
          </p:cNvSpPr>
          <p:nvPr>
            <p:ph type="dt" idx="74"/>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4"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75"/>
          </p:nvPr>
        </p:nvSpPr>
        <p:spPr/>
        <p:txBody>
          <a:bodyPr/>
          <a:p>
            <a:fld id="{DA73AA9E-2E01-4B37-9AEB-F5EF83CB917E}" type="slidenum">
              <a:t>&lt;#&gt;</a:t>
            </a:fld>
          </a:p>
        </p:txBody>
      </p:sp>
      <p:sp>
        <p:nvSpPr>
          <p:cNvPr id="8" name="PlaceHolder 7"/>
          <p:cNvSpPr>
            <a:spLocks noGrp="1"/>
          </p:cNvSpPr>
          <p:nvPr>
            <p:ph type="dt" idx="74"/>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6"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7"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8"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9"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0"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1"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75"/>
          </p:nvPr>
        </p:nvSpPr>
        <p:spPr/>
        <p:txBody>
          <a:bodyPr/>
          <a:p>
            <a:fld id="{ECA48F4A-E582-4E5F-82D9-2E1634C2AF26}" type="slidenum">
              <a:t>&lt;#&gt;</a:t>
            </a:fld>
          </a:p>
        </p:txBody>
      </p:sp>
      <p:sp>
        <p:nvSpPr>
          <p:cNvPr id="10" name="PlaceHolder 9"/>
          <p:cNvSpPr>
            <a:spLocks noGrp="1"/>
          </p:cNvSpPr>
          <p:nvPr>
            <p:ph type="dt" idx="7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F7CA6524-68A9-4444-B4C2-4FDA6BEA27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8"/>
          </p:nvPr>
        </p:nvSpPr>
        <p:spPr/>
        <p:txBody>
          <a:bodyPr/>
          <a:p>
            <a:fld id="{79D89F2F-36F7-4DF8-83BE-38AFB2BE95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8"/>
          </p:nvPr>
        </p:nvSpPr>
        <p:spPr/>
        <p:txBody>
          <a:bodyPr/>
          <a:p>
            <a:fld id="{C59B1835-D047-42BA-B332-A5DBD3401D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8"/>
          </p:nvPr>
        </p:nvSpPr>
        <p:spPr/>
        <p:txBody>
          <a:bodyPr/>
          <a:p>
            <a:fld id="{36C791E7-A7A4-40F4-9A32-932622582B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8"/>
          </p:nvPr>
        </p:nvSpPr>
        <p:spPr/>
        <p:txBody>
          <a:bodyPr/>
          <a:p>
            <a:fld id="{E67FC9BC-A9C6-4364-8B7D-82B88F93AE56}"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039D782-7BE1-4728-85BB-E18020F0E09E}"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08C2A348-83D0-42D5-B4B2-FD25F48C3C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0"/>
          </p:nvPr>
        </p:nvSpPr>
        <p:spPr/>
        <p:txBody>
          <a:bodyPr/>
          <a:p>
            <a:fld id="{8606CBAC-B2CF-479C-9C05-A2702BFD6F9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8D3F5-B56B-4058-8EAC-D3AC7C4D0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F79D8C28-6E8B-480E-8C19-9AEC4F3E796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8F5EED82-B194-4AAF-AB6E-2ED216F9EF4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0"/>
          </p:nvPr>
        </p:nvSpPr>
        <p:spPr/>
        <p:txBody>
          <a:bodyPr/>
          <a:p>
            <a:fld id="{186ABE71-9459-4E66-AE74-75BFF4A9FD4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A9A6491F-3CA1-47CC-BBE7-CA449709FF8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A61061BA-4B75-4B9F-9EB5-28C7F910B6F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0"/>
          </p:nvPr>
        </p:nvSpPr>
        <p:spPr/>
        <p:txBody>
          <a:bodyPr/>
          <a:p>
            <a:fld id="{2D982A5D-6E5C-4FB8-877A-BA8118747BB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0"/>
          </p:nvPr>
        </p:nvSpPr>
        <p:spPr/>
        <p:txBody>
          <a:bodyPr/>
          <a:p>
            <a:fld id="{06C6730A-C1C3-4E72-A556-D49F6E24AD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0"/>
          </p:nvPr>
        </p:nvSpPr>
        <p:spPr/>
        <p:txBody>
          <a:bodyPr/>
          <a:p>
            <a:fld id="{DC6F4E23-1FA0-43C0-97B9-7DCADC5C13A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0"/>
          </p:nvPr>
        </p:nvSpPr>
        <p:spPr/>
        <p:txBody>
          <a:bodyPr/>
          <a:p>
            <a:fld id="{367BEFC0-9CF9-45A6-B535-D24378152F20}"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1BF2BCED-F612-4F90-BC9B-8EB73851C52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D4E59-740B-4970-AAAC-5A022C318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35FE4E6-4948-4E4D-ACE1-B8847B28566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1F7E2BA-B510-42EF-886C-08D4531E985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EB4687E-DF66-4559-A4F0-33E48DB15AA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DE4A7B1-535F-42A6-B330-D28C4F476FD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CA99FC9-6564-4C4A-918F-012804A9F8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E5DA441-B89C-479F-BDD0-4FE0C0F33DF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2DEA4C8-EB9B-4E8B-8E4E-7391B12C7DF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0"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8565B69-1849-49E7-B8D2-7272CAE292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228B87D2-2FB4-4B6B-823A-F797AA71EF9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8"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58715F5-9CC2-460D-B495-7D8FD3AA484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CF255-6515-4C7C-9796-1D71C6A5A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C300648-1719-4D8F-821F-5AFC74DC9B9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5E72E5A-4EA8-4393-9B83-E0A06F5B616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64A3741-7B0F-40A0-97E8-DE87529041D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F7522FE-68C0-4D9A-90E7-AF20883D2D8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B4675C7-A4E0-416D-8E0D-8130351A172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D3E14F9-CD1B-4F2D-B4AE-A1C7360E771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9D2C971-FB60-468C-8C2E-DEB93830136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3"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7DE4646-D6BB-4951-BFB5-F8C79B179AE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0E37DB8-8AE4-4751-8602-8BFD2F8E27B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E408727-1A77-4D39-89C0-51559F835E0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02EF9-1E67-4748-AAC5-DC6ACAD92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4"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02CB34D-1ABD-48C3-A2EA-F9BA1FEEA3D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8"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A177A308-7A94-4E0D-BCE0-DD5966952632}"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2"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B7F9002-A2B5-4E1A-8331-99CE6A9CAA39}"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3F07F56-59CF-4B9E-A6D2-021B70D78B88}"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A1D65A1-DF93-48CD-8C68-AB6C0EEAD55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E825CC9-7690-43DD-B681-D24F1A1D61D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259089A-346B-4734-B5CA-F4A26DF2FEB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19AAF3F-13B0-4846-83A4-6B3D2F6F167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71753E0-FCA6-4327-A859-C907E693AD0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DBBA87C-EB0A-4357-ABC3-B5D49096A0C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34E72-5EC6-41F7-82E4-B2DA5ACD4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23568C4-5937-46B2-8888-0354C4E3CDD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0AD1833-943A-4988-9774-6B657DCD348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D5A2246-532F-41D8-850F-434F2334739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A7282B84-DB6E-4F96-B717-D865F6B4B97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4"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6"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D5A85D5B-F072-4AD1-A21A-85282E12F73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9C5F73E7-4D6E-49D4-9710-1568C26AACB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499D385-07FA-4487-B234-B2E5FB10E64F}"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9DFCE31-F414-47CE-9512-748CCB82A99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21D9B25-8CD4-4C9A-A243-C7449CA78CD7}"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49F9673-A459-4CCA-8581-C14EC9A0E7D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2FD7C-889A-49B3-88BA-B17ECA152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250920" y="274680"/>
            <a:ext cx="6842160" cy="42768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E992830-7196-4366-A9E2-EEB314D2377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3"/>
          <p:cNvSpPr>
            <a:spLocks noGrp="1"/>
          </p:cNvSpPr>
          <p:nvPr>
            <p:ph/>
          </p:nvPr>
        </p:nvSpPr>
        <p:spPr>
          <a:xfrm>
            <a:off x="446796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5"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FBFF5CB-F234-4CAA-9985-5EE163FC891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2"/>
          <p:cNvSpPr>
            <a:spLocks noGrp="1"/>
          </p:cNvSpPr>
          <p:nvPr>
            <p:ph/>
          </p:nvPr>
        </p:nvSpPr>
        <p:spPr>
          <a:xfrm>
            <a:off x="25092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4"/>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821C73B-397E-4DEA-A56A-59A85E04533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2"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3" name="PlaceHolder 4"/>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D6D8FAA-9299-4756-983F-B6EB25E8798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2"/>
          <p:cNvSpPr>
            <a:spLocks noGrp="1"/>
          </p:cNvSpPr>
          <p:nvPr>
            <p:ph/>
          </p:nvPr>
        </p:nvSpPr>
        <p:spPr>
          <a:xfrm>
            <a:off x="25092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3"/>
          <p:cNvSpPr>
            <a:spLocks noGrp="1"/>
          </p:cNvSpPr>
          <p:nvPr>
            <p:ph/>
          </p:nvPr>
        </p:nvSpPr>
        <p:spPr>
          <a:xfrm>
            <a:off x="25092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15D68F7-3711-4FC1-93D9-23740EEA8C7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2"/>
          <p:cNvSpPr>
            <a:spLocks noGrp="1"/>
          </p:cNvSpPr>
          <p:nvPr>
            <p:ph/>
          </p:nvPr>
        </p:nvSpPr>
        <p:spPr>
          <a:xfrm>
            <a:off x="25092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446796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p:nvPr>
        </p:nvSpPr>
        <p:spPr>
          <a:xfrm>
            <a:off x="25092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5"/>
          <p:cNvSpPr>
            <a:spLocks noGrp="1"/>
          </p:cNvSpPr>
          <p:nvPr>
            <p:ph/>
          </p:nvPr>
        </p:nvSpPr>
        <p:spPr>
          <a:xfrm>
            <a:off x="446796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210BD7F-A587-4128-91E1-0BD53436AB8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2"/>
          <p:cNvSpPr>
            <a:spLocks noGrp="1"/>
          </p:cNvSpPr>
          <p:nvPr>
            <p:ph/>
          </p:nvPr>
        </p:nvSpPr>
        <p:spPr>
          <a:xfrm>
            <a:off x="25092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4" name="PlaceHolder 3"/>
          <p:cNvSpPr>
            <a:spLocks noGrp="1"/>
          </p:cNvSpPr>
          <p:nvPr>
            <p:ph/>
          </p:nvPr>
        </p:nvSpPr>
        <p:spPr>
          <a:xfrm>
            <a:off x="303336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5" name="PlaceHolder 4"/>
          <p:cNvSpPr>
            <a:spLocks noGrp="1"/>
          </p:cNvSpPr>
          <p:nvPr>
            <p:ph/>
          </p:nvPr>
        </p:nvSpPr>
        <p:spPr>
          <a:xfrm>
            <a:off x="58158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6" name="PlaceHolder 5"/>
          <p:cNvSpPr>
            <a:spLocks noGrp="1"/>
          </p:cNvSpPr>
          <p:nvPr>
            <p:ph/>
          </p:nvPr>
        </p:nvSpPr>
        <p:spPr>
          <a:xfrm>
            <a:off x="25092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PlaceHolder 6"/>
          <p:cNvSpPr>
            <a:spLocks noGrp="1"/>
          </p:cNvSpPr>
          <p:nvPr>
            <p:ph/>
          </p:nvPr>
        </p:nvSpPr>
        <p:spPr>
          <a:xfrm>
            <a:off x="303336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7"/>
          <p:cNvSpPr>
            <a:spLocks noGrp="1"/>
          </p:cNvSpPr>
          <p:nvPr>
            <p:ph/>
          </p:nvPr>
        </p:nvSpPr>
        <p:spPr>
          <a:xfrm>
            <a:off x="58158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48D85FF3-CE59-46D7-86D4-09929690345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4BC1FFF-C7E1-4020-B595-53368733E45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2"/>
          <p:cNvSpPr>
            <a:spLocks noGrp="1"/>
          </p:cNvSpPr>
          <p:nvPr>
            <p:ph type="subTitle"/>
          </p:nvPr>
        </p:nvSpPr>
        <p:spPr>
          <a:xfrm>
            <a:off x="25092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C69C420-7626-415D-BF2F-B888D21C725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2"/>
          <p:cNvSpPr>
            <a:spLocks noGrp="1"/>
          </p:cNvSpPr>
          <p:nvPr>
            <p:ph/>
          </p:nvPr>
        </p:nvSpPr>
        <p:spPr>
          <a:xfrm>
            <a:off x="25092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57AF913-40C1-44A3-B9B0-0B6B39AAB082}"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ED40C-49DC-47A3-9C6A-13204B88631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71"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72"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73"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74"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D7E1F-6408-459E-8EF8-2613DFA6B371}"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12"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13"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4"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15"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319D6-E421-4FAF-9F2F-2711733E2659}"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3"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54"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55"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56"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6B943-9D58-4E7E-88D5-E74E22434B2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94"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5" name="PlaceHolder 3"/>
          <p:cNvSpPr>
            <a:spLocks noGrp="1"/>
          </p:cNvSpPr>
          <p:nvPr>
            <p:ph type="dt" idx="3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96" name="PlaceHolder 4"/>
          <p:cNvSpPr>
            <a:spLocks noGrp="1"/>
          </p:cNvSpPr>
          <p:nvPr>
            <p:ph type="ftr" idx="3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97" name="PlaceHolder 5"/>
          <p:cNvSpPr>
            <a:spLocks noGrp="1"/>
          </p:cNvSpPr>
          <p:nvPr>
            <p:ph type="sldNum" idx="3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CB2FC-5AE8-44F9-B38D-BDE687FF27E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Picture 8" descr=""/>
          <p:cNvPicPr/>
          <p:nvPr/>
        </p:nvPicPr>
        <p:blipFill>
          <a:blip r:embed="rId2"/>
          <a:stretch/>
        </p:blipFill>
        <p:spPr>
          <a:xfrm>
            <a:off x="7224840" y="0"/>
            <a:ext cx="1919160" cy="1440000"/>
          </a:xfrm>
          <a:prstGeom prst="rect">
            <a:avLst/>
          </a:prstGeom>
          <a:ln w="0">
            <a:noFill/>
          </a:ln>
        </p:spPr>
      </p:pic>
      <p:pic>
        <p:nvPicPr>
          <p:cNvPr id="535" name="Picture 7" descr=""/>
          <p:cNvPicPr/>
          <p:nvPr/>
        </p:nvPicPr>
        <p:blipFill>
          <a:blip r:embed="rId3"/>
          <a:stretch/>
        </p:blipFill>
        <p:spPr>
          <a:xfrm>
            <a:off x="0" y="0"/>
            <a:ext cx="9144000" cy="6858000"/>
          </a:xfrm>
          <a:prstGeom prst="rect">
            <a:avLst/>
          </a:prstGeom>
          <a:ln w="0">
            <a:noFill/>
          </a:ln>
        </p:spPr>
      </p:pic>
      <p:sp>
        <p:nvSpPr>
          <p:cNvPr id="536"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37"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38" name="PlaceHolder 3"/>
          <p:cNvSpPr>
            <a:spLocks noGrp="1"/>
          </p:cNvSpPr>
          <p:nvPr>
            <p:ph type="dt" idx="3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4"/>
          <p:cNvSpPr>
            <a:spLocks noGrp="1"/>
          </p:cNvSpPr>
          <p:nvPr>
            <p:ph type="ftr" idx="3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40" name="PlaceHolder 5"/>
          <p:cNvSpPr>
            <a:spLocks noGrp="1"/>
          </p:cNvSpPr>
          <p:nvPr>
            <p:ph type="sldNum" idx="4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A9A7E-3135-40B1-A0B8-E79F2483005F}"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7" name="Picture 8" descr=""/>
          <p:cNvPicPr/>
          <p:nvPr/>
        </p:nvPicPr>
        <p:blipFill>
          <a:blip r:embed="rId2"/>
          <a:stretch/>
        </p:blipFill>
        <p:spPr>
          <a:xfrm>
            <a:off x="7224840" y="0"/>
            <a:ext cx="1919160" cy="1440000"/>
          </a:xfrm>
          <a:prstGeom prst="rect">
            <a:avLst/>
          </a:prstGeom>
          <a:ln w="0">
            <a:noFill/>
          </a:ln>
        </p:spPr>
      </p:pic>
      <p:sp>
        <p:nvSpPr>
          <p:cNvPr id="578"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579"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0"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1"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582"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F9FF-A585-48E5-A718-BAD7EB6D76E8}"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9" name="Picture 8" descr=""/>
          <p:cNvPicPr/>
          <p:nvPr/>
        </p:nvPicPr>
        <p:blipFill>
          <a:blip r:embed="rId2"/>
          <a:stretch/>
        </p:blipFill>
        <p:spPr>
          <a:xfrm>
            <a:off x="7224840" y="0"/>
            <a:ext cx="1919160" cy="1440000"/>
          </a:xfrm>
          <a:prstGeom prst="rect">
            <a:avLst/>
          </a:prstGeom>
          <a:ln w="0">
            <a:noFill/>
          </a:ln>
        </p:spPr>
      </p:pic>
      <p:pic>
        <p:nvPicPr>
          <p:cNvPr id="620" name="Picture 7" descr="thesea"/>
          <p:cNvPicPr/>
          <p:nvPr/>
        </p:nvPicPr>
        <p:blipFill>
          <a:blip r:embed="rId3"/>
          <a:stretch/>
        </p:blipFill>
        <p:spPr>
          <a:xfrm>
            <a:off x="0" y="0"/>
            <a:ext cx="9144000" cy="6858000"/>
          </a:xfrm>
          <a:prstGeom prst="rect">
            <a:avLst/>
          </a:prstGeom>
          <a:ln w="0">
            <a:noFill/>
          </a:ln>
        </p:spPr>
      </p:pic>
      <p:sp>
        <p:nvSpPr>
          <p:cNvPr id="62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22"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23" name="PlaceHolder 3"/>
          <p:cNvSpPr>
            <a:spLocks noGrp="1"/>
          </p:cNvSpPr>
          <p:nvPr>
            <p:ph type="dt" idx="4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24" name="PlaceHolder 4"/>
          <p:cNvSpPr>
            <a:spLocks noGrp="1"/>
          </p:cNvSpPr>
          <p:nvPr>
            <p:ph type="ftr" idx="4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25" name="PlaceHolder 5"/>
          <p:cNvSpPr>
            <a:spLocks noGrp="1"/>
          </p:cNvSpPr>
          <p:nvPr>
            <p:ph type="sldNum" idx="4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F9C70-FBA6-484A-B5F5-96CAC76498D7}"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2" name="Picture 8" descr=""/>
          <p:cNvPicPr/>
          <p:nvPr/>
        </p:nvPicPr>
        <p:blipFill>
          <a:blip r:embed="rId2"/>
          <a:stretch/>
        </p:blipFill>
        <p:spPr>
          <a:xfrm>
            <a:off x="7224840" y="0"/>
            <a:ext cx="1919160" cy="1440000"/>
          </a:xfrm>
          <a:prstGeom prst="rect">
            <a:avLst/>
          </a:prstGeom>
          <a:ln w="0">
            <a:noFill/>
          </a:ln>
        </p:spPr>
      </p:pic>
      <p:sp>
        <p:nvSpPr>
          <p:cNvPr id="66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64"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65" name="PlaceHolder 3"/>
          <p:cNvSpPr>
            <a:spLocks noGrp="1"/>
          </p:cNvSpPr>
          <p:nvPr>
            <p:ph type="dt" idx="4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66" name="PlaceHolder 4"/>
          <p:cNvSpPr>
            <a:spLocks noGrp="1"/>
          </p:cNvSpPr>
          <p:nvPr>
            <p:ph type="ftr" idx="4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667" name="PlaceHolder 5"/>
          <p:cNvSpPr>
            <a:spLocks noGrp="1"/>
          </p:cNvSpPr>
          <p:nvPr>
            <p:ph type="sldNum" idx="4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875E-B31A-4CEF-BBD2-C94C39A415D7}"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4" name="Picture 8" descr=""/>
          <p:cNvPicPr/>
          <p:nvPr/>
        </p:nvPicPr>
        <p:blipFill>
          <a:blip r:embed="rId2"/>
          <a:stretch/>
        </p:blipFill>
        <p:spPr>
          <a:xfrm>
            <a:off x="7224840" y="0"/>
            <a:ext cx="1919160" cy="1440000"/>
          </a:xfrm>
          <a:prstGeom prst="rect">
            <a:avLst/>
          </a:prstGeom>
          <a:ln w="0">
            <a:noFill/>
          </a:ln>
        </p:spPr>
      </p:pic>
      <p:sp>
        <p:nvSpPr>
          <p:cNvPr id="70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06"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07" name="PlaceHolder 3"/>
          <p:cNvSpPr>
            <a:spLocks noGrp="1"/>
          </p:cNvSpPr>
          <p:nvPr>
            <p:ph type="dt" idx="5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8" name="PlaceHolder 4"/>
          <p:cNvSpPr>
            <a:spLocks noGrp="1"/>
          </p:cNvSpPr>
          <p:nvPr>
            <p:ph type="ftr" idx="5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709" name="PlaceHolder 5"/>
          <p:cNvSpPr>
            <a:spLocks noGrp="1"/>
          </p:cNvSpPr>
          <p:nvPr>
            <p:ph type="sldNum" idx="5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656E4-CE02-463F-A082-DEE7928FF368}"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6" name="Picture 8" descr=""/>
          <p:cNvPicPr/>
          <p:nvPr/>
        </p:nvPicPr>
        <p:blipFill>
          <a:blip r:embed="rId2"/>
          <a:stretch/>
        </p:blipFill>
        <p:spPr>
          <a:xfrm>
            <a:off x="7224840" y="0"/>
            <a:ext cx="1919160" cy="1440000"/>
          </a:xfrm>
          <a:prstGeom prst="rect">
            <a:avLst/>
          </a:prstGeom>
          <a:ln w="0">
            <a:noFill/>
          </a:ln>
        </p:spPr>
      </p:pic>
      <p:sp>
        <p:nvSpPr>
          <p:cNvPr id="74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48"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49" name="PlaceHolder 3"/>
          <p:cNvSpPr>
            <a:spLocks noGrp="1"/>
          </p:cNvSpPr>
          <p:nvPr>
            <p:ph type="dt" idx="5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0" name="PlaceHolder 4"/>
          <p:cNvSpPr>
            <a:spLocks noGrp="1"/>
          </p:cNvSpPr>
          <p:nvPr>
            <p:ph type="ftr" idx="5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751" name="PlaceHolder 5"/>
          <p:cNvSpPr>
            <a:spLocks noGrp="1"/>
          </p:cNvSpPr>
          <p:nvPr>
            <p:ph type="sldNum" idx="5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01FC6-FDD8-42BA-ACD6-2F6F230E23B9}"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2190-24D1-4BD5-8CB6-6C388DFA9365}"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46" name="Picture 8" descr=""/>
          <p:cNvPicPr/>
          <p:nvPr/>
        </p:nvPicPr>
        <p:blipFill>
          <a:blip r:embed="rId2"/>
          <a:stretch/>
        </p:blipFill>
        <p:spPr>
          <a:xfrm>
            <a:off x="7224840" y="0"/>
            <a:ext cx="1919160" cy="1440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8" name="Picture 8" descr=""/>
          <p:cNvPicPr/>
          <p:nvPr/>
        </p:nvPicPr>
        <p:blipFill>
          <a:blip r:embed="rId2"/>
          <a:stretch/>
        </p:blipFill>
        <p:spPr>
          <a:xfrm>
            <a:off x="7224840" y="0"/>
            <a:ext cx="1919160" cy="1440000"/>
          </a:xfrm>
          <a:prstGeom prst="rect">
            <a:avLst/>
          </a:prstGeom>
          <a:ln w="0">
            <a:noFill/>
          </a:ln>
        </p:spPr>
      </p:pic>
      <p:sp>
        <p:nvSpPr>
          <p:cNvPr id="78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790"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91" name="PlaceHolder 3"/>
          <p:cNvSpPr>
            <a:spLocks noGrp="1"/>
          </p:cNvSpPr>
          <p:nvPr>
            <p:ph type="dt" idx="5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92" name="PlaceHolder 4"/>
          <p:cNvSpPr>
            <a:spLocks noGrp="1"/>
          </p:cNvSpPr>
          <p:nvPr>
            <p:ph type="ftr" idx="5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793" name="PlaceHolder 5"/>
          <p:cNvSpPr>
            <a:spLocks noGrp="1"/>
          </p:cNvSpPr>
          <p:nvPr>
            <p:ph type="sldNum" idx="5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6DD40-49BC-4E9D-B08A-00221F146F56}"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Picture 8" descr=""/>
          <p:cNvPicPr/>
          <p:nvPr/>
        </p:nvPicPr>
        <p:blipFill>
          <a:blip r:embed="rId2"/>
          <a:stretch/>
        </p:blipFill>
        <p:spPr>
          <a:xfrm>
            <a:off x="7224840" y="0"/>
            <a:ext cx="1919160" cy="1440000"/>
          </a:xfrm>
          <a:prstGeom prst="rect">
            <a:avLst/>
          </a:prstGeom>
          <a:ln w="0">
            <a:noFill/>
          </a:ln>
        </p:spPr>
      </p:pic>
      <p:sp>
        <p:nvSpPr>
          <p:cNvPr id="831"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32"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33" name="PlaceHolder 3"/>
          <p:cNvSpPr>
            <a:spLocks noGrp="1"/>
          </p:cNvSpPr>
          <p:nvPr>
            <p:ph type="dt" idx="5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4" name="PlaceHolder 4"/>
          <p:cNvSpPr>
            <a:spLocks noGrp="1"/>
          </p:cNvSpPr>
          <p:nvPr>
            <p:ph type="ftr" idx="6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35" name="PlaceHolder 5"/>
          <p:cNvSpPr>
            <a:spLocks noGrp="1"/>
          </p:cNvSpPr>
          <p:nvPr>
            <p:ph type="sldNum" idx="6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15A1-FA82-4B82-B4D5-9522D0B649B2}"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2" name="Picture 8" descr=""/>
          <p:cNvPicPr/>
          <p:nvPr/>
        </p:nvPicPr>
        <p:blipFill>
          <a:blip r:embed="rId2"/>
          <a:stretch/>
        </p:blipFill>
        <p:spPr>
          <a:xfrm>
            <a:off x="7224840" y="0"/>
            <a:ext cx="1919160" cy="1440000"/>
          </a:xfrm>
          <a:prstGeom prst="rect">
            <a:avLst/>
          </a:prstGeom>
          <a:ln w="0">
            <a:noFill/>
          </a:ln>
        </p:spPr>
      </p:pic>
      <p:sp>
        <p:nvSpPr>
          <p:cNvPr id="873"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74"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5" name="PlaceHolder 3"/>
          <p:cNvSpPr>
            <a:spLocks noGrp="1"/>
          </p:cNvSpPr>
          <p:nvPr>
            <p:ph type="dt" idx="6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6" name="PlaceHolder 4"/>
          <p:cNvSpPr>
            <a:spLocks noGrp="1"/>
          </p:cNvSpPr>
          <p:nvPr>
            <p:ph type="ftr" idx="6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77" name="PlaceHolder 5"/>
          <p:cNvSpPr>
            <a:spLocks noGrp="1"/>
          </p:cNvSpPr>
          <p:nvPr>
            <p:ph type="sldNum" idx="6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F685-A1E0-4492-A97A-3F077D677889}"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4" name="Picture 8" descr=""/>
          <p:cNvPicPr/>
          <p:nvPr/>
        </p:nvPicPr>
        <p:blipFill>
          <a:blip r:embed="rId2"/>
          <a:stretch/>
        </p:blipFill>
        <p:spPr>
          <a:xfrm>
            <a:off x="7224840" y="0"/>
            <a:ext cx="1919160" cy="1440000"/>
          </a:xfrm>
          <a:prstGeom prst="rect">
            <a:avLst/>
          </a:prstGeom>
          <a:ln w="0">
            <a:noFill/>
          </a:ln>
        </p:spPr>
      </p:pic>
      <p:sp>
        <p:nvSpPr>
          <p:cNvPr id="915"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16"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17" name="PlaceHolder 3"/>
          <p:cNvSpPr>
            <a:spLocks noGrp="1"/>
          </p:cNvSpPr>
          <p:nvPr>
            <p:ph type="dt" idx="6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18" name="PlaceHolder 4"/>
          <p:cNvSpPr>
            <a:spLocks noGrp="1"/>
          </p:cNvSpPr>
          <p:nvPr>
            <p:ph type="ftr" idx="6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19" name="PlaceHolder 5"/>
          <p:cNvSpPr>
            <a:spLocks noGrp="1"/>
          </p:cNvSpPr>
          <p:nvPr>
            <p:ph type="sldNum" idx="6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5CB91-0361-41F5-AFF3-E31E70A67A3F}"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6" name="Picture 8" descr=""/>
          <p:cNvPicPr/>
          <p:nvPr/>
        </p:nvPicPr>
        <p:blipFill>
          <a:blip r:embed="rId2"/>
          <a:stretch/>
        </p:blipFill>
        <p:spPr>
          <a:xfrm>
            <a:off x="7224840" y="0"/>
            <a:ext cx="1919160" cy="1440000"/>
          </a:xfrm>
          <a:prstGeom prst="rect">
            <a:avLst/>
          </a:prstGeom>
          <a:ln w="0">
            <a:noFill/>
          </a:ln>
        </p:spPr>
      </p:pic>
      <p:sp>
        <p:nvSpPr>
          <p:cNvPr id="957"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958"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59" name="PlaceHolder 3"/>
          <p:cNvSpPr>
            <a:spLocks noGrp="1"/>
          </p:cNvSpPr>
          <p:nvPr>
            <p:ph type="dt" idx="6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960" name="PlaceHolder 4"/>
          <p:cNvSpPr>
            <a:spLocks noGrp="1"/>
          </p:cNvSpPr>
          <p:nvPr>
            <p:ph type="ftr" idx="6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61" name="PlaceHolder 5"/>
          <p:cNvSpPr>
            <a:spLocks noGrp="1"/>
          </p:cNvSpPr>
          <p:nvPr>
            <p:ph type="sldNum" idx="7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4AC6-E23F-4748-A4F5-842B3DB6AF38}"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Picture 8" descr=""/>
          <p:cNvPicPr/>
          <p:nvPr/>
        </p:nvPicPr>
        <p:blipFill>
          <a:blip r:embed="rId2"/>
          <a:stretch/>
        </p:blipFill>
        <p:spPr>
          <a:xfrm>
            <a:off x="7224840" y="0"/>
            <a:ext cx="1919160" cy="1440000"/>
          </a:xfrm>
          <a:prstGeom prst="rect">
            <a:avLst/>
          </a:prstGeom>
          <a:ln w="0">
            <a:noFill/>
          </a:ln>
        </p:spPr>
      </p:pic>
      <p:sp>
        <p:nvSpPr>
          <p:cNvPr id="999"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00"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01" name="PlaceHolder 3"/>
          <p:cNvSpPr>
            <a:spLocks noGrp="1"/>
          </p:cNvSpPr>
          <p:nvPr>
            <p:ph type="dt" idx="7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002" name="PlaceHolder 4"/>
          <p:cNvSpPr>
            <a:spLocks noGrp="1"/>
          </p:cNvSpPr>
          <p:nvPr>
            <p:ph type="ftr" idx="7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003" name="PlaceHolder 5"/>
          <p:cNvSpPr>
            <a:spLocks noGrp="1"/>
          </p:cNvSpPr>
          <p:nvPr>
            <p:ph type="sldNum" idx="7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054AB-B0EF-4C2D-A95C-4A02652C1DB6}"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0" name="Picture 8" descr=""/>
          <p:cNvPicPr/>
          <p:nvPr/>
        </p:nvPicPr>
        <p:blipFill>
          <a:blip r:embed="rId2"/>
          <a:stretch/>
        </p:blipFill>
        <p:spPr>
          <a:xfrm>
            <a:off x="7224840" y="0"/>
            <a:ext cx="1919160" cy="1440000"/>
          </a:xfrm>
          <a:prstGeom prst="rect">
            <a:avLst/>
          </a:prstGeom>
          <a:ln w="0">
            <a:noFill/>
          </a:ln>
        </p:spPr>
      </p:pic>
      <p:pic>
        <p:nvPicPr>
          <p:cNvPr id="1041" name="Picture 6" descr="erasmus_mundus_ppt_inner_pages.jpg"/>
          <p:cNvPicPr/>
          <p:nvPr/>
        </p:nvPicPr>
        <p:blipFill>
          <a:blip r:embed="rId3"/>
          <a:stretch/>
        </p:blipFill>
        <p:spPr>
          <a:xfrm>
            <a:off x="-144360" y="0"/>
            <a:ext cx="9396360" cy="6858000"/>
          </a:xfrm>
          <a:prstGeom prst="rect">
            <a:avLst/>
          </a:prstGeom>
          <a:ln w="0">
            <a:noFill/>
          </a:ln>
        </p:spPr>
      </p:pic>
      <p:sp>
        <p:nvSpPr>
          <p:cNvPr id="1042" name="PlaceHolder 1"/>
          <p:cNvSpPr>
            <a:spLocks noGrp="1"/>
          </p:cNvSpPr>
          <p:nvPr>
            <p:ph type="title"/>
          </p:nvPr>
        </p:nvSpPr>
        <p:spPr>
          <a:xfrm>
            <a:off x="250920" y="274680"/>
            <a:ext cx="684216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043" name="PlaceHolder 2"/>
          <p:cNvSpPr>
            <a:spLocks noGrp="1"/>
          </p:cNvSpPr>
          <p:nvPr>
            <p:ph type="body"/>
          </p:nvPr>
        </p:nvSpPr>
        <p:spPr>
          <a:xfrm>
            <a:off x="25092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44" name="PlaceHolder 3"/>
          <p:cNvSpPr>
            <a:spLocks noGrp="1"/>
          </p:cNvSpPr>
          <p:nvPr>
            <p:ph type="dt" idx="7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045" name="PlaceHolder 4"/>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5043-D073-4286-8B31-DC6C0FAD1742}" type="slidenum">
              <a:rPr b="0" lang="en-GB"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erasmus_mundus_ppt_cover.jpg"/>
          <p:cNvPicPr/>
          <p:nvPr/>
        </p:nvPicPr>
        <p:blipFill>
          <a:blip r:embed="rId2"/>
          <a:stretch/>
        </p:blipFill>
        <p:spPr>
          <a:xfrm>
            <a:off x="-108000" y="0"/>
            <a:ext cx="9433080" cy="6858000"/>
          </a:xfrm>
          <a:prstGeom prst="rect">
            <a:avLst/>
          </a:prstGeom>
          <a:ln w="0">
            <a:noFill/>
          </a:ln>
        </p:spPr>
      </p:pic>
      <p:sp>
        <p:nvSpPr>
          <p:cNvPr id="84"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85"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87"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B6AA-7732-4C3A-89BC-FC0897DFE6AE}" type="slidenum">
              <a:rPr b="0" lang="en-GB"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Picture 6" descr="erasmus_mundus_ppt_inner_pages.jpg"/>
          <p:cNvPicPr/>
          <p:nvPr/>
        </p:nvPicPr>
        <p:blipFill>
          <a:blip r:embed="rId2"/>
          <a:stretch/>
        </p:blipFill>
        <p:spPr>
          <a:xfrm>
            <a:off x="-144360" y="0"/>
            <a:ext cx="9396360" cy="6858000"/>
          </a:xfrm>
          <a:prstGeom prst="rect">
            <a:avLst/>
          </a:prstGeom>
          <a:ln w="0">
            <a:noFill/>
          </a:ln>
        </p:spPr>
      </p:pic>
      <p:sp>
        <p:nvSpPr>
          <p:cNvPr id="12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26"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27"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28" name="PlaceHolder 4"/>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6C7D8-3546-445D-AD23-73A4A85A0CD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66"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67"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8"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69"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0AEA-5897-4B7B-AB40-D66DCEA9AE2F}"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07"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08"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09"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10"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D2390-C666-41F7-9237-63B1EC349034}"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48"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49"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0"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51"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A82A-054F-4181-9D65-06D10ACB8052}"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289"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9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29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5D3A-15E0-425D-A2FE-7F95B008E430}"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1123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330" name="PlaceHolder 2"/>
          <p:cNvSpPr>
            <a:spLocks noGrp="1"/>
          </p:cNvSpPr>
          <p:nvPr>
            <p:ph type="body"/>
          </p:nvPr>
        </p:nvSpPr>
        <p:spPr>
          <a:xfrm>
            <a:off x="457200" y="2387520"/>
            <a:ext cx="8229600" cy="363384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331"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2"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33"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F1754-EB1D-4330-BE07-E84CBB93BC26}"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package" Target="../embeddings/oleObject1.xlsx"/><Relationship Id="rId3" Type="http://schemas.openxmlformats.org/officeDocument/2006/relationships/image" Target="../media/image17.wmf"/><Relationship Id="rId4" Type="http://schemas.openxmlformats.org/officeDocument/2006/relationships/slideLayout" Target="../slideLayouts/slideLayout3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7.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0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jpe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Layout" Target="../slideLayouts/slideLayout37.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1258560" y="1125000"/>
            <a:ext cx="6553080" cy="208764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4800" spc="-1" strike="noStrike">
                <a:solidFill>
                  <a:srgbClr val="ffd624"/>
                </a:solidFill>
                <a:latin typeface="Verdana"/>
              </a:rPr>
              <a:t>Erasmus Mundus</a:t>
            </a:r>
            <a:endParaRPr b="1" lang="en-US" sz="4800" spc="-1" strike="noStrike">
              <a:solidFill>
                <a:srgbClr val="0f5494"/>
              </a:solidFill>
              <a:latin typeface="Verdana"/>
            </a:endParaRPr>
          </a:p>
        </p:txBody>
      </p:sp>
      <p:sp>
        <p:nvSpPr>
          <p:cNvPr id="1090" name=""/>
          <p:cNvSpPr txBox="1"/>
          <p:nvPr/>
        </p:nvSpPr>
        <p:spPr>
          <a:xfrm>
            <a:off x="0" y="2924280"/>
            <a:ext cx="9144000" cy="2449440"/>
          </a:xfrm>
          <a:prstGeom prst="rect">
            <a:avLst/>
          </a:prstGeom>
          <a:noFill/>
          <a:ln w="0">
            <a:noFill/>
          </a:ln>
        </p:spPr>
        <p:txBody>
          <a:bodyPr anchor="t">
            <a:normAutofit fontScale="92000"/>
          </a:bodyPr>
          <a:p>
            <a:pPr marL="315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ffff"/>
                </a:solidFill>
                <a:latin typeface="Verdana"/>
              </a:rPr>
              <a:t>Evento conjunto ALFA y EM-Acción 2</a:t>
            </a:r>
            <a:endParaRPr b="0" i="1" lang="en-US" sz="3000" spc="-1" strike="noStrike">
              <a:solidFill>
                <a:srgbClr val="0f5494"/>
              </a:solidFill>
              <a:latin typeface="Verdana"/>
            </a:endParaRPr>
          </a:p>
          <a:p>
            <a:pPr marL="315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000" spc="-1" strike="noStrike">
                <a:solidFill>
                  <a:srgbClr val="ffffff"/>
                </a:solidFill>
                <a:latin typeface="Verdana"/>
              </a:rPr>
              <a:t>Mirando hacia el futuro</a:t>
            </a:r>
            <a:endParaRPr b="0" i="1" lang="en-US" sz="3000" spc="-1" strike="noStrike">
              <a:solidFill>
                <a:srgbClr val="0f5494"/>
              </a:solidFill>
              <a:latin typeface="Verdana"/>
            </a:endParaRPr>
          </a:p>
          <a:p>
            <a:pPr marL="3153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Verdana"/>
              </a:rPr>
              <a:t>Impacto y Resultados de EM-Acción 2 (AL)</a:t>
            </a:r>
            <a:endParaRPr b="0" i="1" lang="en-US" sz="1800" spc="-1" strike="noStrike">
              <a:solidFill>
                <a:srgbClr val="0f5494"/>
              </a:solidFill>
              <a:latin typeface="Verdana"/>
            </a:endParaRPr>
          </a:p>
          <a:p>
            <a:pPr marL="3153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Verdana"/>
              </a:rPr>
              <a:t>26 de Junio 2014, Lima </a:t>
            </a:r>
            <a:endParaRPr b="0" i="1" lang="en-US" sz="1800" spc="-1" strike="noStrike">
              <a:solidFill>
                <a:srgbClr val="0f5494"/>
              </a:solidFill>
              <a:latin typeface="Verdana"/>
            </a:endParaRPr>
          </a:p>
          <a:p>
            <a:pPr marL="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1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fff"/>
                </a:solidFill>
                <a:latin typeface="Verdana"/>
              </a:rPr>
              <a:t>	</a:t>
            </a:r>
            <a:r>
              <a:rPr b="1" lang="fr-BE" sz="2400" spc="-1" strike="noStrike">
                <a:solidFill>
                  <a:srgbClr val="ffffff"/>
                </a:solidFill>
                <a:latin typeface="Verdana"/>
              </a:rPr>
              <a:t>	</a:t>
            </a:r>
            <a:r>
              <a:rPr b="1" lang="fr-BE" sz="2400" spc="-1" strike="noStrike">
                <a:solidFill>
                  <a:srgbClr val="ffffff"/>
                </a:solidFill>
                <a:latin typeface="Verdana"/>
              </a:rPr>
              <a:t>	</a:t>
            </a:r>
            <a:r>
              <a:rPr b="1" lang="fr-BE" sz="2400" spc="-1" strike="noStrike">
                <a:solidFill>
                  <a:srgbClr val="ffffff"/>
                </a:solidFill>
                <a:latin typeface="Verdana"/>
              </a:rPr>
              <a:t>	</a:t>
            </a:r>
            <a:r>
              <a:rPr b="1" lang="fr-BE" sz="2400" spc="-1" strike="noStrike">
                <a:solidFill>
                  <a:srgbClr val="ffffff"/>
                </a:solidFill>
                <a:latin typeface="Verdana"/>
              </a:rPr>
              <a:t>	</a:t>
            </a:r>
            <a:r>
              <a:rPr b="1" lang="fr-BE" sz="2400" spc="-1" strike="noStrike">
                <a:solidFill>
                  <a:srgbClr val="ffffff"/>
                </a:solidFill>
                <a:latin typeface="Verdana"/>
              </a:rPr>
              <a:t>           </a:t>
            </a:r>
            <a:r>
              <a:rPr b="1" i="1" lang="fr-BE" sz="2400" spc="-1" strike="noStrike">
                <a:solidFill>
                  <a:srgbClr val="ffffff"/>
                </a:solidFill>
                <a:latin typeface="Verdana"/>
              </a:rPr>
              <a:t>	</a:t>
            </a:r>
            <a:r>
              <a:rPr b="1" i="1" lang="fr-BE" sz="2400" spc="-1" strike="noStrike">
                <a:solidFill>
                  <a:srgbClr val="ffffff"/>
                </a:solidFill>
                <a:latin typeface="Verdana"/>
              </a:rPr>
              <a:t>	</a:t>
            </a:r>
            <a:r>
              <a:rPr b="1" i="1" lang="fr-BE" sz="2400" spc="-1" strike="noStrike">
                <a:solidFill>
                  <a:srgbClr val="ffffff"/>
                </a:solidFill>
                <a:latin typeface="Verdana"/>
              </a:rPr>
              <a:t>	</a:t>
            </a:r>
            <a:endParaRPr b="0" i="1" lang="en-US" sz="2400" spc="-1" strike="noStrike">
              <a:solidFill>
                <a:srgbClr val="0f5494"/>
              </a:solidFill>
              <a:latin typeface="Verdana"/>
            </a:endParaRPr>
          </a:p>
        </p:txBody>
      </p:sp>
      <p:sp>
        <p:nvSpPr>
          <p:cNvPr id="1091" name="Rectangle 3"/>
          <p:cNvSpPr/>
          <p:nvPr/>
        </p:nvSpPr>
        <p:spPr>
          <a:xfrm>
            <a:off x="5830920" y="5950080"/>
            <a:ext cx="3313080" cy="85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400" spc="-1" strike="noStrike">
                <a:solidFill>
                  <a:srgbClr val="ffffff"/>
                </a:solidFill>
                <a:latin typeface="Verdana"/>
                <a:ea typeface="Arial"/>
              </a:rPr>
              <a:t>M</a:t>
            </a:r>
            <a:r>
              <a:rPr b="1" i="1" lang="el-GR" sz="1400" spc="-1" strike="noStrike">
                <a:solidFill>
                  <a:srgbClr val="ffffff"/>
                </a:solidFill>
                <a:latin typeface="Verdana"/>
                <a:ea typeface="Arial"/>
              </a:rPr>
              <a:t>ό</a:t>
            </a:r>
            <a:r>
              <a:rPr b="1" i="1" lang="fr-BE" sz="1400" spc="-1" strike="noStrike">
                <a:solidFill>
                  <a:srgbClr val="ffffff"/>
                </a:solidFill>
                <a:latin typeface="Verdana"/>
                <a:ea typeface="Arial"/>
              </a:rPr>
              <a:t>nika Holik</a:t>
            </a:r>
            <a:r>
              <a:rPr b="1" i="1" lang="fr-BE" sz="1200" spc="-1" strike="noStrike">
                <a:solidFill>
                  <a:srgbClr val="ffffff"/>
                </a:solidFill>
                <a:latin typeface="Verdana"/>
                <a:ea typeface="Arial"/>
              </a:rPr>
              <a:t>, EACEA</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a:ea typeface="Arial"/>
              </a:rPr>
              <a:t>Unidad A3 – Erasmus+</a:t>
            </a:r>
            <a:endParaRPr b="1" lang="en-US" sz="12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200" spc="-1" strike="noStrike">
                <a:solidFill>
                  <a:srgbClr val="ffffff"/>
                </a:solidFill>
                <a:latin typeface="Verdana"/>
                <a:ea typeface="Arial"/>
              </a:rPr>
              <a:t>Educación Superior – Programas conjuntos de Maestrías</a:t>
            </a:r>
            <a:endParaRPr b="1" lang="en-US" sz="12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7" name="Chart 4"/>
          <p:cNvGraphicFramePr/>
          <p:nvPr/>
        </p:nvGraphicFramePr>
        <p:xfrm>
          <a:off x="1895400" y="1890720"/>
          <a:ext cx="6858000" cy="5067360"/>
        </p:xfrm>
        <a:graphic>
          <a:graphicData uri="http://schemas.openxmlformats.org/presentationml/2006/ole">
            <p:oleObj progId="Excel.Sheet.12" r:id="rId1" spid="">
              <p:embed/>
              <p:pic>
                <p:nvPicPr>
                  <p:cNvPr id="1148" name="Chart 4" descr=""/>
                  <p:cNvPicPr/>
                  <p:nvPr/>
                </p:nvPicPr>
                <p:blipFill>
                  <a:blip r:embed="rId2"/>
                  <a:stretch/>
                </p:blipFill>
                <p:spPr>
                  <a:xfrm>
                    <a:off x="1895400" y="1890720"/>
                    <a:ext cx="6858000" cy="5067360"/>
                  </a:xfrm>
                  <a:prstGeom prst="rect">
                    <a:avLst/>
                  </a:prstGeom>
                  <a:ln w="0">
                    <a:noFill/>
                  </a:ln>
                </p:spPr>
              </p:pic>
            </p:oleObj>
          </a:graphicData>
        </a:graphic>
      </p:graphicFrame>
      <p:sp>
        <p:nvSpPr>
          <p:cNvPr id="1149" name="TextBox 5"/>
          <p:cNvSpPr/>
          <p:nvPr/>
        </p:nvSpPr>
        <p:spPr>
          <a:xfrm>
            <a:off x="0" y="2421000"/>
            <a:ext cx="1944720" cy="4055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d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ea typeface="Arial"/>
              </a:rPr>
              <a:t>456</a:t>
            </a:r>
            <a:r>
              <a:rPr b="0" lang="en-GB" sz="1400" spc="-1" strike="noStrike">
                <a:solidFill>
                  <a:srgbClr val="0f5494"/>
                </a:solidFill>
                <a:latin typeface="Verdana"/>
                <a:ea typeface="Arial"/>
              </a:rPr>
              <a:t> participaciones de </a:t>
            </a:r>
            <a:r>
              <a:rPr b="1" lang="en-GB" sz="1400" spc="-1" strike="noStrike">
                <a:solidFill>
                  <a:srgbClr val="0f5494"/>
                </a:solidFill>
                <a:latin typeface="Verdana"/>
                <a:ea typeface="Arial"/>
              </a:rPr>
              <a:t>196</a:t>
            </a:r>
            <a:r>
              <a:rPr b="0" lang="en-GB" sz="1400" spc="-1" strike="noStrike">
                <a:solidFill>
                  <a:srgbClr val="0f5494"/>
                </a:solidFill>
                <a:latin typeface="Verdana"/>
                <a:ea typeface="Arial"/>
              </a:rPr>
              <a:t> </a:t>
            </a:r>
            <a:r>
              <a:rPr b="0" lang="en-GB" sz="1400" spc="-1" strike="noStrike" u="sng">
                <a:solidFill>
                  <a:srgbClr val="0f5494"/>
                </a:solidFill>
                <a:uFillTx/>
                <a:latin typeface="Verdana"/>
                <a:ea typeface="Arial"/>
              </a:rPr>
              <a:t>universidades de América Latina</a:t>
            </a:r>
            <a:endParaRPr b="1" lang="en-US" sz="1400" spc="-1" strike="noStrike">
              <a:solidFill>
                <a:srgbClr val="ffd624"/>
              </a:solidFill>
              <a:latin typeface="Verdana"/>
            </a:endParaRPr>
          </a:p>
          <a:p>
            <a:pPr marL="343080" indent="-343080">
              <a:buClr>
                <a:srgbClr val="ffd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p>
            <a:pPr marL="343080" indent="-343080">
              <a:buClr>
                <a:srgbClr val="ffd62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100" spc="-1" strike="noStrike">
                <a:solidFill>
                  <a:srgbClr val="0f5494"/>
                </a:solidFill>
                <a:latin typeface="Verdana"/>
                <a:ea typeface="Arial"/>
              </a:rPr>
              <a:t>111 </a:t>
            </a:r>
            <a:r>
              <a:rPr b="0" i="1" lang="en-GB" sz="1100" spc="-1" strike="noStrike">
                <a:solidFill>
                  <a:srgbClr val="0f5494"/>
                </a:solidFill>
                <a:latin typeface="Verdana"/>
                <a:ea typeface="Arial"/>
              </a:rPr>
              <a:t>participaciones de </a:t>
            </a:r>
            <a:r>
              <a:rPr b="1" i="1" lang="en-GB" sz="1100" spc="-1" strike="noStrike">
                <a:solidFill>
                  <a:srgbClr val="0f5494"/>
                </a:solidFill>
                <a:latin typeface="Verdana"/>
                <a:ea typeface="Arial"/>
              </a:rPr>
              <a:t>55 </a:t>
            </a:r>
            <a:r>
              <a:rPr b="0" i="1" lang="en-GB" sz="1100" spc="-1" strike="noStrike">
                <a:solidFill>
                  <a:srgbClr val="0f5494"/>
                </a:solidFill>
                <a:latin typeface="Verdana"/>
                <a:ea typeface="Arial"/>
              </a:rPr>
              <a:t>universidades de América Latina provenientes de países del </a:t>
            </a:r>
            <a:r>
              <a:rPr b="1" i="1" lang="en-GB" sz="1100" spc="-1" strike="noStrike">
                <a:solidFill>
                  <a:srgbClr val="0f5494"/>
                </a:solidFill>
                <a:latin typeface="Verdana"/>
                <a:ea typeface="Arial"/>
              </a:rPr>
              <a:t>Grupo A </a:t>
            </a:r>
            <a:endParaRPr b="1" lang="en-US" sz="1100" spc="-1" strike="noStrike">
              <a:solidFill>
                <a:srgbClr val="ffd624"/>
              </a:solidFill>
              <a:latin typeface="Verdana"/>
            </a:endParaRPr>
          </a:p>
          <a:p>
            <a:pPr marL="343080" indent="-343080">
              <a:buClr>
                <a:srgbClr val="ffd624"/>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p>
            <a:pPr marL="343080" indent="-343080">
              <a:buClr>
                <a:srgbClr val="ffd6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ea typeface="Arial"/>
              </a:rPr>
              <a:t>361</a:t>
            </a:r>
            <a:r>
              <a:rPr b="0" lang="en-GB" sz="1400" spc="-1" strike="noStrike">
                <a:solidFill>
                  <a:srgbClr val="0f5494"/>
                </a:solidFill>
                <a:latin typeface="Verdana"/>
                <a:ea typeface="Arial"/>
              </a:rPr>
              <a:t> participaciones de  </a:t>
            </a:r>
            <a:r>
              <a:rPr b="1" lang="en-GB" sz="1400" spc="-1" strike="noStrike">
                <a:solidFill>
                  <a:srgbClr val="0f5494"/>
                </a:solidFill>
                <a:latin typeface="Verdana"/>
                <a:ea typeface="Arial"/>
              </a:rPr>
              <a:t>137</a:t>
            </a:r>
            <a:r>
              <a:rPr b="0" lang="en-GB" sz="1400" spc="-1" strike="noStrike">
                <a:solidFill>
                  <a:srgbClr val="0f5494"/>
                </a:solidFill>
                <a:latin typeface="Verdana"/>
                <a:ea typeface="Arial"/>
              </a:rPr>
              <a:t> </a:t>
            </a:r>
            <a:r>
              <a:rPr b="0" lang="en-GB" sz="1400" spc="-1" strike="noStrike" u="sng">
                <a:solidFill>
                  <a:srgbClr val="0f5494"/>
                </a:solidFill>
                <a:uFillTx/>
                <a:latin typeface="Verdana"/>
                <a:ea typeface="Arial"/>
              </a:rPr>
              <a:t>universidades Europeas</a:t>
            </a:r>
            <a:endParaRPr b="1" lang="en-US" sz="1400" spc="-1" strike="noStrike">
              <a:solidFill>
                <a:srgbClr val="ffd624"/>
              </a:solidFill>
              <a:latin typeface="Verdana"/>
            </a:endParaRPr>
          </a:p>
          <a:p>
            <a:pPr marL="343080" indent="-343080">
              <a:buClr>
                <a:srgbClr val="ffd62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a:p>
            <a:pPr marL="343080" indent="-343080">
              <a:buClr>
                <a:srgbClr val="ffd62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468360" y="119700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f5494"/>
                </a:solidFill>
                <a:latin typeface="Verdana"/>
              </a:rPr>
              <a:t>Impacto</a:t>
            </a:r>
            <a:endParaRPr b="1" lang="en-US" sz="3200" spc="-1" strike="noStrike">
              <a:solidFill>
                <a:srgbClr val="0f5494"/>
              </a:solidFill>
              <a:latin typeface="Verdana"/>
            </a:endParaRPr>
          </a:p>
        </p:txBody>
      </p:sp>
      <p:sp>
        <p:nvSpPr>
          <p:cNvPr id="1151" name=""/>
          <p:cNvSpPr txBox="1"/>
          <p:nvPr/>
        </p:nvSpPr>
        <p:spPr>
          <a:xfrm>
            <a:off x="457200" y="2060640"/>
            <a:ext cx="8229600" cy="4138560"/>
          </a:xfrm>
          <a:prstGeom prst="rect">
            <a:avLst/>
          </a:prstGeom>
          <a:noFill/>
          <a:ln w="0">
            <a:noFill/>
          </a:ln>
        </p:spPr>
        <p:txBody>
          <a:bodyPr anchor="t">
            <a:normAutofit/>
          </a:bodyPr>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Regional: estrechando las relaciones en dos dimensiones: AL/UE y AL/AL</a:t>
            </a:r>
            <a:r>
              <a:rPr b="1" lang="fr-BE" sz="1800" spc="-1" strike="noStrike">
                <a:solidFill>
                  <a:srgbClr val="0f5494"/>
                </a:solidFill>
                <a:latin typeface="Verdana"/>
              </a:rPr>
              <a:t>	</a:t>
            </a:r>
            <a:endParaRPr b="1" lang="en-US" sz="18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País: contribuyendo en la cohesión social: participaión de estudiantes en desventaja ecónomica y social; participación del grupo objetivo 3</a:t>
            </a:r>
            <a:endParaRPr b="1" lang="en-US" sz="18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Institucional: establecimiento de acuerdos bilaterales, áreas de investigación conjuntas; programas conjuntos; visibilidad internacional</a:t>
            </a:r>
            <a:endParaRPr b="1" lang="en-US" sz="18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Individual: personal y profesional</a:t>
            </a:r>
            <a:endParaRPr b="1" lang="en-US" sz="1800" spc="-1" strike="noStrike">
              <a:solidFill>
                <a:srgbClr val="0f5494"/>
              </a:solidFill>
              <a:latin typeface="Verdana"/>
            </a:endParaRPr>
          </a:p>
          <a:p>
            <a:pPr marL="343080" indent="-343080">
              <a:spcBef>
                <a:spcPts val="45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f5494"/>
                </a:solidFill>
                <a:latin typeface="Verdana"/>
              </a:rPr>
              <a:t>Resultados apreciados </a:t>
            </a:r>
            <a:endParaRPr b="1" lang="en-US" sz="3200" spc="-1" strike="noStrike">
              <a:solidFill>
                <a:srgbClr val="0f5494"/>
              </a:solidFill>
              <a:latin typeface="Verdana"/>
            </a:endParaRPr>
          </a:p>
        </p:txBody>
      </p:sp>
      <p:sp>
        <p:nvSpPr>
          <p:cNvPr id="1153" name=""/>
          <p:cNvSpPr txBox="1"/>
          <p:nvPr/>
        </p:nvSpPr>
        <p:spPr>
          <a:xfrm>
            <a:off x="457200" y="2565360"/>
            <a:ext cx="8229600" cy="3633840"/>
          </a:xfrm>
          <a:prstGeom prst="rect">
            <a:avLst/>
          </a:prstGeom>
          <a:noFill/>
          <a:ln w="0">
            <a:noFill/>
          </a:ln>
        </p:spPr>
        <p:txBody>
          <a:bodyPr anchor="t">
            <a:normAutofit/>
          </a:bodyPr>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Verdana"/>
              </a:rPr>
              <a:t>Proyectos en concordancia  con la estrategia de cooperación UE/AL</a:t>
            </a:r>
            <a:endParaRPr b="0" i="1" lang="en-US" sz="16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Verdana"/>
              </a:rPr>
              <a:t>Número de movilidades previsto alcanzado </a:t>
            </a:r>
            <a:endParaRPr b="0" i="1" lang="en-US" sz="16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Verdana"/>
              </a:rPr>
              <a:t>Alto participación de universidades</a:t>
            </a:r>
            <a:endParaRPr b="0" i="1" lang="en-US" sz="16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Verdana"/>
              </a:rPr>
              <a:t>Colaboraciones consolidadas entre universidades de ambos lados</a:t>
            </a:r>
            <a:endParaRPr b="0" i="1" lang="en-US" sz="16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La internacionalización de las universidades de las regiones menos favorecidas</a:t>
            </a:r>
            <a:endParaRPr b="0" i="1" lang="en-US" sz="1600" spc="-1" strike="noStrike">
              <a:solidFill>
                <a:srgbClr val="0f5494"/>
              </a:solidFill>
              <a:latin typeface="Verdana"/>
            </a:endParaRPr>
          </a:p>
          <a:p>
            <a:pPr marL="343080" indent="-343080">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f5494"/>
                </a:solidFill>
                <a:latin typeface="Verdana"/>
              </a:rPr>
              <a:t>Entusiasmo y enriquecimiento cultural para los becarios</a:t>
            </a:r>
            <a:endParaRPr b="0" i="1" lang="en-US" sz="16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4" name="Picture 2" descr=""/>
          <p:cNvPicPr/>
          <p:nvPr/>
        </p:nvPicPr>
        <p:blipFill>
          <a:blip r:embed="rId1"/>
          <a:stretch/>
        </p:blipFill>
        <p:spPr>
          <a:xfrm>
            <a:off x="7164360" y="5805360"/>
            <a:ext cx="1725480" cy="470160"/>
          </a:xfrm>
          <a:prstGeom prst="rect">
            <a:avLst/>
          </a:prstGeom>
          <a:ln w="0">
            <a:noFill/>
          </a:ln>
        </p:spPr>
      </p:pic>
      <p:graphicFrame>
        <p:nvGraphicFramePr>
          <p:cNvPr id="1155" name="Chart 3"/>
          <p:cNvGraphicFramePr/>
          <p:nvPr/>
        </p:nvGraphicFramePr>
        <p:xfrm>
          <a:off x="1619280" y="1228680"/>
          <a:ext cx="7458120" cy="5419800"/>
        </p:xfrm>
        <a:graphic>
          <a:graphicData uri="http://schemas.openxmlformats.org/presentationml/2006/ole">
            <p:oleObj progId="Excel.Sheet.12" r:id="rId2" spid="">
              <p:embed/>
              <p:pic>
                <p:nvPicPr>
                  <p:cNvPr id="1156" name="Chart 3" descr=""/>
                  <p:cNvPicPr/>
                  <p:nvPr/>
                </p:nvPicPr>
                <p:blipFill>
                  <a:blip r:embed="rId3"/>
                  <a:stretch/>
                </p:blipFill>
                <p:spPr>
                  <a:xfrm>
                    <a:off x="1619280" y="1228680"/>
                    <a:ext cx="7458120" cy="5419800"/>
                  </a:xfrm>
                  <a:prstGeom prst="rect">
                    <a:avLst/>
                  </a:prstGeom>
                  <a:ln w="0">
                    <a:noFill/>
                  </a:ln>
                </p:spPr>
              </p:pic>
            </p:oleObj>
          </a:graphicData>
        </a:graphic>
      </p:graphicFrame>
      <p:sp>
        <p:nvSpPr>
          <p:cNvPr id="1157" name="TextBox 1"/>
          <p:cNvSpPr/>
          <p:nvPr/>
        </p:nvSpPr>
        <p:spPr>
          <a:xfrm>
            <a:off x="1440" y="2205000"/>
            <a:ext cx="1690920" cy="2271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Total EU movilidad hacia AL: </a:t>
            </a:r>
            <a:r>
              <a:rPr b="1" lang="en-GB" sz="1300" spc="-1" strike="noStrike">
                <a:solidFill>
                  <a:srgbClr val="0f5494"/>
                </a:solidFill>
                <a:latin typeface="Verdana"/>
              </a:rPr>
              <a:t>1036</a:t>
            </a:r>
            <a:endParaRPr b="1" lang="en-US" sz="1300" spc="-1" strike="noStrike">
              <a:solidFill>
                <a:srgbClr val="ffd62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d62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Total AL movilidad hacia UE: </a:t>
            </a:r>
            <a:r>
              <a:rPr b="1" lang="en-GB" sz="1300" spc="-1" strike="noStrike">
                <a:solidFill>
                  <a:srgbClr val="0f5494"/>
                </a:solidFill>
                <a:latin typeface="Verdana"/>
              </a:rPr>
              <a:t>5687</a:t>
            </a:r>
            <a:endParaRPr b="1" lang="en-US" sz="1300" spc="-1" strike="noStrike">
              <a:solidFill>
                <a:srgbClr val="ffd62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d62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f5494"/>
                </a:solidFill>
                <a:latin typeface="Verdana"/>
              </a:rPr>
              <a:t>Movilidades en curso: </a:t>
            </a:r>
            <a:r>
              <a:rPr b="1" lang="en-GB" sz="1300" spc="-1" strike="noStrike">
                <a:solidFill>
                  <a:srgbClr val="0f5494"/>
                </a:solidFill>
                <a:latin typeface="Verdana"/>
              </a:rPr>
              <a:t>333</a:t>
            </a:r>
            <a:endParaRPr b="1" lang="en-US" sz="1300" spc="-1" strike="noStrike">
              <a:solidFill>
                <a:srgbClr val="ffd624"/>
              </a:solidFill>
              <a:latin typeface="Verdana"/>
            </a:endParaRPr>
          </a:p>
          <a:p>
            <a:pPr marL="343080" indent="-343080">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aphicFrame>
        <p:nvGraphicFramePr>
          <p:cNvPr id="1158" name="Chart 4"/>
          <p:cNvGraphicFramePr/>
          <p:nvPr/>
        </p:nvGraphicFramePr>
        <p:xfrm>
          <a:off x="920880" y="1290600"/>
          <a:ext cx="7518240" cy="5213520"/>
        </p:xfrm>
        <a:graphic>
          <a:graphicData uri="http://schemas.openxmlformats.org/presentationml/2006/ole">
            <p:oleObj progId="Excel.Sheet.12" r:id="rId1" spid="">
              <p:embed/>
              <p:pic>
                <p:nvPicPr>
                  <p:cNvPr id="1159" name="Chart 4" descr=""/>
                  <p:cNvPicPr/>
                  <p:nvPr/>
                </p:nvPicPr>
                <p:blipFill>
                  <a:blip r:embed="rId2"/>
                  <a:stretch/>
                </p:blipFill>
                <p:spPr>
                  <a:xfrm>
                    <a:off x="920880" y="1290600"/>
                    <a:ext cx="7518240" cy="521352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160" name="Chart 6" descr=""/>
          <p:cNvPicPr/>
          <p:nvPr/>
        </p:nvPicPr>
        <p:blipFill>
          <a:blip r:embed="rId1"/>
          <a:stretch/>
        </p:blipFill>
        <p:spPr>
          <a:xfrm>
            <a:off x="324000" y="2346480"/>
            <a:ext cx="4827600" cy="3962160"/>
          </a:xfrm>
          <a:prstGeom prst="rect">
            <a:avLst/>
          </a:prstGeom>
          <a:ln w="0">
            <a:noFill/>
          </a:ln>
        </p:spPr>
      </p:pic>
      <p:pic>
        <p:nvPicPr>
          <p:cNvPr id="1161" name="Chart 7" descr=""/>
          <p:cNvPicPr/>
          <p:nvPr/>
        </p:nvPicPr>
        <p:blipFill>
          <a:blip r:embed="rId2"/>
          <a:stretch/>
        </p:blipFill>
        <p:spPr>
          <a:xfrm>
            <a:off x="4548240" y="2200320"/>
            <a:ext cx="4443480" cy="3822480"/>
          </a:xfrm>
          <a:prstGeom prst="rect">
            <a:avLst/>
          </a:prstGeom>
          <a:ln w="0">
            <a:noFill/>
          </a:ln>
        </p:spPr>
      </p:pic>
      <p:sp>
        <p:nvSpPr>
          <p:cNvPr id="1162" name="Rectangle 2"/>
          <p:cNvSpPr/>
          <p:nvPr/>
        </p:nvSpPr>
        <p:spPr>
          <a:xfrm>
            <a:off x="2286000" y="1197000"/>
            <a:ext cx="4572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f5494"/>
                </a:solidFill>
                <a:latin typeface="Verdana"/>
                <a:ea typeface="Verdana"/>
              </a:rPr>
              <a:t> </a:t>
            </a:r>
            <a:r>
              <a:rPr b="1" lang="en-US" sz="1600" spc="-1" strike="noStrike">
                <a:solidFill>
                  <a:srgbClr val="0f5494"/>
                </a:solidFill>
                <a:latin typeface="Verdana"/>
                <a:ea typeface="Verdana"/>
              </a:rPr>
              <a:t>Duración de las movilidades</a:t>
            </a:r>
            <a:br>
              <a:rPr sz="1600"/>
            </a:br>
            <a:r>
              <a:rPr b="1" lang="en-US" sz="1600" spc="-1" strike="noStrike">
                <a:solidFill>
                  <a:srgbClr val="0f5494"/>
                </a:solidFill>
                <a:latin typeface="Verdana"/>
                <a:ea typeface="Verdana"/>
              </a:rPr>
              <a:t>(América Latina regional y lotes por país, Erasmus Mundus Acción 2)</a:t>
            </a:r>
            <a:endParaRPr b="1" lang="en-US" sz="1600" spc="-1" strike="noStrike">
              <a:solidFill>
                <a:srgbClr val="ffd624"/>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3" name="Picture 3" descr=""/>
          <p:cNvPicPr/>
          <p:nvPr/>
        </p:nvPicPr>
        <p:blipFill>
          <a:blip r:embed="rId1"/>
          <a:srcRect l="0" t="0" r="25032" b="0"/>
          <a:stretch/>
        </p:blipFill>
        <p:spPr>
          <a:xfrm>
            <a:off x="4859280" y="1598760"/>
            <a:ext cx="3686400" cy="4390920"/>
          </a:xfrm>
          <a:prstGeom prst="rect">
            <a:avLst/>
          </a:prstGeom>
          <a:ln w="0">
            <a:noFill/>
          </a:ln>
        </p:spPr>
      </p:pic>
      <p:pic>
        <p:nvPicPr>
          <p:cNvPr id="1164" name="Picture 4" descr=""/>
          <p:cNvPicPr/>
          <p:nvPr/>
        </p:nvPicPr>
        <p:blipFill>
          <a:blip r:embed="rId2"/>
          <a:stretch/>
        </p:blipFill>
        <p:spPr>
          <a:xfrm>
            <a:off x="108000" y="2060640"/>
            <a:ext cx="3333600" cy="4000320"/>
          </a:xfrm>
          <a:prstGeom prst="rect">
            <a:avLst/>
          </a:prstGeom>
          <a:ln w="0">
            <a:noFill/>
          </a:ln>
        </p:spPr>
      </p:pic>
      <p:sp>
        <p:nvSpPr>
          <p:cNvPr id="1165" name="TextBox 5"/>
          <p:cNvSpPr/>
          <p:nvPr/>
        </p:nvSpPr>
        <p:spPr>
          <a:xfrm>
            <a:off x="468360" y="134136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EU mobility to LA</a:t>
            </a:r>
            <a:endParaRPr b="1" lang="en-US" sz="1800" spc="-1" strike="noStrike">
              <a:solidFill>
                <a:srgbClr val="ffd624"/>
              </a:solidFill>
              <a:latin typeface="Verdana"/>
            </a:endParaRPr>
          </a:p>
        </p:txBody>
      </p:sp>
      <p:sp>
        <p:nvSpPr>
          <p:cNvPr id="1166" name="TextBox 6"/>
          <p:cNvSpPr/>
          <p:nvPr/>
        </p:nvSpPr>
        <p:spPr>
          <a:xfrm>
            <a:off x="5867280" y="1413000"/>
            <a:ext cx="252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f5494"/>
                </a:solidFill>
                <a:latin typeface="Verdana"/>
                <a:ea typeface="Arial"/>
              </a:rPr>
              <a:t>LA mobility to EU</a:t>
            </a:r>
            <a:endParaRPr b="1" lang="en-US" sz="1800" spc="-1" strike="noStrike">
              <a:solidFill>
                <a:srgbClr val="ffd624"/>
              </a:solidFill>
              <a:latin typeface="Verdana"/>
            </a:endParaRPr>
          </a:p>
        </p:txBody>
      </p:sp>
      <p:sp>
        <p:nvSpPr>
          <p:cNvPr id="1167" name="TextBox 13"/>
          <p:cNvSpPr/>
          <p:nvPr/>
        </p:nvSpPr>
        <p:spPr>
          <a:xfrm>
            <a:off x="5072040" y="4219560"/>
            <a:ext cx="64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42%</a:t>
            </a:r>
            <a:endParaRPr b="1" lang="en-US" sz="1200" spc="-1" strike="noStrike">
              <a:solidFill>
                <a:srgbClr val="ffd624"/>
              </a:solidFill>
              <a:latin typeface="Verdana"/>
            </a:endParaRPr>
          </a:p>
        </p:txBody>
      </p:sp>
      <p:cxnSp>
        <p:nvCxnSpPr>
          <p:cNvPr id="1168" name="Straight Arrow Connector 15"/>
          <p:cNvCxnSpPr/>
          <p:nvPr/>
        </p:nvCxnSpPr>
        <p:spPr>
          <a:xfrm>
            <a:off x="5354280" y="4495680"/>
            <a:ext cx="81360" cy="588240"/>
          </a:xfrm>
          <a:prstGeom prst="straightConnector1">
            <a:avLst/>
          </a:prstGeom>
          <a:ln w="38160">
            <a:solidFill>
              <a:srgbClr val="c00000"/>
            </a:solidFill>
            <a:miter/>
            <a:tailEnd len="med" type="arrow" w="med"/>
          </a:ln>
        </p:spPr>
      </p:cxnSp>
      <p:sp>
        <p:nvSpPr>
          <p:cNvPr id="1169" name="TextBox 19"/>
          <p:cNvSpPr/>
          <p:nvPr/>
        </p:nvSpPr>
        <p:spPr>
          <a:xfrm>
            <a:off x="4140360" y="4222800"/>
            <a:ext cx="64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14%</a:t>
            </a:r>
            <a:endParaRPr b="1" lang="en-US" sz="1200" spc="-1" strike="noStrike">
              <a:solidFill>
                <a:srgbClr val="ffd624"/>
              </a:solidFill>
              <a:latin typeface="Verdana"/>
            </a:endParaRPr>
          </a:p>
        </p:txBody>
      </p:sp>
      <p:cxnSp>
        <p:nvCxnSpPr>
          <p:cNvPr id="1170" name="Straight Arrow Connector 20"/>
          <p:cNvCxnSpPr/>
          <p:nvPr/>
        </p:nvCxnSpPr>
        <p:spPr>
          <a:xfrm>
            <a:off x="4660560" y="4431960"/>
            <a:ext cx="399240" cy="437400"/>
          </a:xfrm>
          <a:prstGeom prst="straightConnector1">
            <a:avLst/>
          </a:prstGeom>
          <a:ln w="38160">
            <a:solidFill>
              <a:srgbClr val="c00000"/>
            </a:solidFill>
            <a:miter/>
            <a:tailEnd len="med" type="arrow" w="med"/>
          </a:ln>
        </p:spPr>
      </p:cxnSp>
      <p:cxnSp>
        <p:nvCxnSpPr>
          <p:cNvPr id="1171" name="Straight Arrow Connector 28"/>
          <p:cNvCxnSpPr/>
          <p:nvPr/>
        </p:nvCxnSpPr>
        <p:spPr>
          <a:xfrm flipH="1" flipV="1">
            <a:off x="6947640" y="5157000"/>
            <a:ext cx="288360" cy="646920"/>
          </a:xfrm>
          <a:prstGeom prst="straightConnector1">
            <a:avLst/>
          </a:prstGeom>
          <a:ln w="38160">
            <a:solidFill>
              <a:srgbClr val="c00000"/>
            </a:solidFill>
            <a:miter/>
            <a:tailEnd len="med" type="arrow" w="med"/>
          </a:ln>
        </p:spPr>
      </p:cxnSp>
      <p:sp>
        <p:nvSpPr>
          <p:cNvPr id="1172" name="TextBox 30"/>
          <p:cNvSpPr/>
          <p:nvPr/>
        </p:nvSpPr>
        <p:spPr>
          <a:xfrm>
            <a:off x="7018200" y="5803920"/>
            <a:ext cx="64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11%</a:t>
            </a:r>
            <a:endParaRPr b="1" lang="en-US" sz="1200" spc="-1" strike="noStrike">
              <a:solidFill>
                <a:srgbClr val="ffd624"/>
              </a:solidFill>
              <a:latin typeface="Verdana"/>
            </a:endParaRPr>
          </a:p>
        </p:txBody>
      </p:sp>
      <p:cxnSp>
        <p:nvCxnSpPr>
          <p:cNvPr id="1173" name="Straight Arrow Connector 11"/>
          <p:cNvCxnSpPr/>
          <p:nvPr/>
        </p:nvCxnSpPr>
        <p:spPr>
          <a:xfrm flipH="1">
            <a:off x="2770920" y="2960280"/>
            <a:ext cx="577080" cy="685080"/>
          </a:xfrm>
          <a:prstGeom prst="straightConnector1">
            <a:avLst/>
          </a:prstGeom>
          <a:ln w="38160">
            <a:solidFill>
              <a:srgbClr val="c00000"/>
            </a:solidFill>
            <a:miter/>
            <a:tailEnd len="med" type="arrow" w="med"/>
          </a:ln>
        </p:spPr>
      </p:cxnSp>
      <p:sp>
        <p:nvSpPr>
          <p:cNvPr id="1174" name="TextBox 19"/>
          <p:cNvSpPr/>
          <p:nvPr/>
        </p:nvSpPr>
        <p:spPr>
          <a:xfrm>
            <a:off x="3130560" y="2682720"/>
            <a:ext cx="64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43%</a:t>
            </a:r>
            <a:endParaRPr b="1" lang="en-US" sz="1200" spc="-1" strike="noStrike">
              <a:solidFill>
                <a:srgbClr val="ffd624"/>
              </a:solidFill>
              <a:latin typeface="Verdana"/>
            </a:endParaRPr>
          </a:p>
        </p:txBody>
      </p:sp>
      <p:sp>
        <p:nvSpPr>
          <p:cNvPr id="1175" name="Straight Connector 5"/>
          <p:cNvSpPr/>
          <p:nvPr/>
        </p:nvSpPr>
        <p:spPr>
          <a:xfrm>
            <a:off x="3924360" y="1525680"/>
            <a:ext cx="0" cy="446400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cxnSp>
        <p:nvCxnSpPr>
          <p:cNvPr id="1176" name="Straight Arrow Connector 18"/>
          <p:cNvCxnSpPr/>
          <p:nvPr/>
        </p:nvCxnSpPr>
        <p:spPr>
          <a:xfrm flipV="1">
            <a:off x="286920" y="2564640"/>
            <a:ext cx="397800" cy="864360"/>
          </a:xfrm>
          <a:prstGeom prst="straightConnector1">
            <a:avLst/>
          </a:prstGeom>
          <a:ln w="38160">
            <a:solidFill>
              <a:srgbClr val="c00000"/>
            </a:solidFill>
            <a:miter/>
            <a:tailEnd len="med" type="arrow" w="med"/>
          </a:ln>
        </p:spPr>
      </p:cxnSp>
      <p:sp>
        <p:nvSpPr>
          <p:cNvPr id="1177" name="TextBox 30"/>
          <p:cNvSpPr/>
          <p:nvPr/>
        </p:nvSpPr>
        <p:spPr>
          <a:xfrm>
            <a:off x="34920" y="3452760"/>
            <a:ext cx="64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8%</a:t>
            </a:r>
            <a:endParaRPr b="1" lang="en-US" sz="1200" spc="-1" strike="noStrike">
              <a:solidFill>
                <a:srgbClr val="ffd624"/>
              </a:solidFill>
              <a:latin typeface="Verdana"/>
            </a:endParaRPr>
          </a:p>
        </p:txBody>
      </p:sp>
      <p:cxnSp>
        <p:nvCxnSpPr>
          <p:cNvPr id="1178" name="Straight Arrow Connector 24"/>
          <p:cNvCxnSpPr/>
          <p:nvPr/>
        </p:nvCxnSpPr>
        <p:spPr>
          <a:xfrm flipV="1">
            <a:off x="1512720" y="5085720"/>
            <a:ext cx="396000" cy="864360"/>
          </a:xfrm>
          <a:prstGeom prst="straightConnector1">
            <a:avLst/>
          </a:prstGeom>
          <a:ln w="38160">
            <a:solidFill>
              <a:srgbClr val="c00000"/>
            </a:solidFill>
            <a:miter/>
            <a:tailEnd len="med" type="arrow" w="med"/>
          </a:ln>
        </p:spPr>
      </p:cxnSp>
      <p:sp>
        <p:nvSpPr>
          <p:cNvPr id="1179" name="TextBox 30"/>
          <p:cNvSpPr/>
          <p:nvPr/>
        </p:nvSpPr>
        <p:spPr>
          <a:xfrm>
            <a:off x="1187280" y="5989680"/>
            <a:ext cx="64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8%</a:t>
            </a:r>
            <a:endParaRPr b="1" lang="en-US" sz="1200" spc="-1" strike="noStrike">
              <a:solidFill>
                <a:srgbClr val="ffd624"/>
              </a:solidFill>
              <a:latin typeface="Verdana"/>
            </a:endParaRPr>
          </a:p>
        </p:txBody>
      </p:sp>
      <p:cxnSp>
        <p:nvCxnSpPr>
          <p:cNvPr id="1180" name="Straight Arrow Connector 26"/>
          <p:cNvCxnSpPr/>
          <p:nvPr/>
        </p:nvCxnSpPr>
        <p:spPr>
          <a:xfrm flipH="1" flipV="1">
            <a:off x="2268000" y="5013000"/>
            <a:ext cx="504000" cy="977040"/>
          </a:xfrm>
          <a:prstGeom prst="straightConnector1">
            <a:avLst/>
          </a:prstGeom>
          <a:ln w="38160">
            <a:solidFill>
              <a:srgbClr val="c00000"/>
            </a:solidFill>
            <a:miter/>
            <a:tailEnd len="med" type="arrow" w="med"/>
          </a:ln>
        </p:spPr>
      </p:cxnSp>
      <p:sp>
        <p:nvSpPr>
          <p:cNvPr id="1181" name="TextBox 30"/>
          <p:cNvSpPr/>
          <p:nvPr/>
        </p:nvSpPr>
        <p:spPr>
          <a:xfrm>
            <a:off x="2647800" y="6027840"/>
            <a:ext cx="649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8%</a:t>
            </a:r>
            <a:endParaRPr b="1" lang="en-US" sz="1200" spc="-1" strike="noStrike">
              <a:solidFill>
                <a:srgbClr val="ffd624"/>
              </a:solidFill>
              <a:latin typeface="Verdana"/>
            </a:endParaRPr>
          </a:p>
        </p:txBody>
      </p:sp>
      <p:cxnSp>
        <p:nvCxnSpPr>
          <p:cNvPr id="1182" name="Straight Arrow Connector 29"/>
          <p:cNvCxnSpPr>
            <a:stCxn id="1183" idx="0"/>
          </p:cNvCxnSpPr>
          <p:nvPr/>
        </p:nvCxnSpPr>
        <p:spPr>
          <a:xfrm flipV="1">
            <a:off x="1427040" y="3933360"/>
            <a:ext cx="199440" cy="804240"/>
          </a:xfrm>
          <a:prstGeom prst="straightConnector1">
            <a:avLst/>
          </a:prstGeom>
          <a:ln w="38160">
            <a:solidFill>
              <a:srgbClr val="c00000"/>
            </a:solidFill>
            <a:miter/>
            <a:tailEnd len="med" type="arrow" w="med"/>
          </a:ln>
        </p:spPr>
      </p:cxnSp>
      <p:sp>
        <p:nvSpPr>
          <p:cNvPr id="1183" name="TextBox 30"/>
          <p:cNvSpPr/>
          <p:nvPr/>
        </p:nvSpPr>
        <p:spPr>
          <a:xfrm>
            <a:off x="1103400" y="4737240"/>
            <a:ext cx="649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4%</a:t>
            </a:r>
            <a:endParaRPr b="1" lang="en-US" sz="1200" spc="-1" strike="noStrike">
              <a:solidFill>
                <a:srgbClr val="ffd624"/>
              </a:solidFill>
              <a:latin typeface="Verdana"/>
            </a:endParaRPr>
          </a:p>
        </p:txBody>
      </p:sp>
      <p:sp>
        <p:nvSpPr>
          <p:cNvPr id="1184" name="TextBox 19"/>
          <p:cNvSpPr/>
          <p:nvPr/>
        </p:nvSpPr>
        <p:spPr>
          <a:xfrm>
            <a:off x="5219640" y="3836880"/>
            <a:ext cx="647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0000"/>
                </a:solidFill>
                <a:latin typeface="Verdana"/>
                <a:ea typeface="Arial"/>
              </a:rPr>
              <a:t>7%</a:t>
            </a:r>
            <a:endParaRPr b="1" lang="en-US" sz="1200" spc="-1" strike="noStrike">
              <a:solidFill>
                <a:srgbClr val="ffd624"/>
              </a:solidFill>
              <a:latin typeface="Verdana"/>
            </a:endParaRPr>
          </a:p>
        </p:txBody>
      </p:sp>
      <p:cxnSp>
        <p:nvCxnSpPr>
          <p:cNvPr id="1185" name="Straight Arrow Connector 35"/>
          <p:cNvCxnSpPr/>
          <p:nvPr/>
        </p:nvCxnSpPr>
        <p:spPr>
          <a:xfrm>
            <a:off x="5556240" y="4057200"/>
            <a:ext cx="529200" cy="375480"/>
          </a:xfrm>
          <a:prstGeom prst="straightConnector1">
            <a:avLst/>
          </a:prstGeom>
          <a:ln w="38160">
            <a:solidFill>
              <a:srgbClr val="c00000"/>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68360" y="907920"/>
            <a:ext cx="822960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ROM América Latina: observaciones</a:t>
            </a:r>
            <a:endParaRPr b="0" lang="en-US" sz="2000" spc="-1" strike="noStrike">
              <a:solidFill>
                <a:srgbClr val="000000"/>
              </a:solidFill>
              <a:latin typeface="Arial"/>
            </a:endParaRPr>
          </a:p>
        </p:txBody>
      </p:sp>
      <p:sp>
        <p:nvSpPr>
          <p:cNvPr id="1187" name=""/>
          <p:cNvSpPr txBox="1"/>
          <p:nvPr/>
        </p:nvSpPr>
        <p:spPr>
          <a:xfrm>
            <a:off x="395280" y="2492280"/>
            <a:ext cx="8229600" cy="413856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Calibri"/>
              </a:rPr>
              <a:t>Preguntas abiertas:</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Calibri"/>
              </a:rPr>
              <a:t>Cómo podemos invertir en los resultados obtenidos y garantizar una cooperación futura?</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Calibri"/>
              </a:rPr>
              <a:t>En qué medida han cambiado las universidades participantes en EM? Y cuáles son sus objetivos inmediatos?</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f5494"/>
                </a:solidFill>
                <a:latin typeface="Calibri"/>
              </a:rPr>
              <a:t>En qué medida han contribuido los proyectos de EM a la transferencia de conocimientos/tecnologías/innovación; cohesión social ; prospectiva profesional de los becarios/as?</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Calibri"/>
              </a:rPr>
              <a:t>Cuáles son las sinergias con otros programas/proyectos y perspectiva futura?</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f5494"/>
                </a:solidFill>
                <a:latin typeface="Calibri"/>
              </a:rPr>
              <a:t>Cómo mantener los niveles de cooperación alcanzados con EM y ALFA ? </a:t>
            </a:r>
            <a:endParaRPr b="0" lang="en-US" sz="1600" spc="-1" strike="noStrike">
              <a:solidFill>
                <a:srgbClr val="000000"/>
              </a:solidFill>
              <a:latin typeface="Arial"/>
            </a:endParaRPr>
          </a:p>
          <a:p>
            <a:pPr marL="343080" indent="-343080" algn="just">
              <a:lnSpc>
                <a:spcPct val="100000"/>
              </a:lnSpc>
              <a:spcBef>
                <a:spcPts val="601"/>
              </a:spcBef>
              <a:spcAft>
                <a:spcPts val="601"/>
              </a:spcAft>
              <a:buClr>
                <a:srgbClr val="0f5494"/>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188" name=""/>
          <p:cNvGraphicFramePr/>
          <p:nvPr/>
        </p:nvGraphicFramePr>
        <p:xfrm>
          <a:off x="1403280" y="1700280"/>
          <a:ext cx="6096240" cy="579240"/>
        </p:xfrm>
        <a:graphic>
          <a:graphicData uri="http://schemas.openxmlformats.org/drawingml/2006/table">
            <a:tbl>
              <a:tblPr/>
              <a:tblGrid>
                <a:gridCol w="6096240"/>
              </a:tblGrid>
              <a:tr h="579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790d8"/>
                          </a:solidFill>
                          <a:latin typeface="Calibri"/>
                        </a:rPr>
                        <a:t>Pertinencia, eficiencia, eficacia, impacto y sostenibilidad de la acción es positiva</a:t>
                      </a:r>
                      <a:endParaRPr b="1" lang="en-US" sz="1600" spc="-1" strike="noStrike">
                        <a:solidFill>
                          <a:srgbClr val="ffd624"/>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title"/>
          </p:nvPr>
        </p:nvSpPr>
        <p:spPr>
          <a:xfrm>
            <a:off x="577800" y="134136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03a80"/>
                </a:solidFill>
                <a:latin typeface="Verdana"/>
              </a:rPr>
              <a:t>ERASMUS MUNDUS:  3 Acciones</a:t>
            </a:r>
            <a:endParaRPr b="1" lang="en-US" sz="3000" spc="-1" strike="noStrike">
              <a:solidFill>
                <a:srgbClr val="0f5494"/>
              </a:solidFill>
              <a:latin typeface="Verdana"/>
            </a:endParaRPr>
          </a:p>
        </p:txBody>
      </p:sp>
      <p:sp>
        <p:nvSpPr>
          <p:cNvPr id="1093" name="Rounded Rectangle 13"/>
          <p:cNvSpPr/>
          <p:nvPr/>
        </p:nvSpPr>
        <p:spPr>
          <a:xfrm>
            <a:off x="468360" y="2637000"/>
            <a:ext cx="5081400" cy="10731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a80"/>
                </a:solidFill>
                <a:latin typeface="Verdana"/>
                <a:ea typeface="Arial"/>
              </a:rPr>
              <a:t>Acción 1: </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a80"/>
                </a:solidFill>
                <a:latin typeface="Verdana"/>
                <a:ea typeface="Arial"/>
              </a:rPr>
              <a:t>Erasmus Mundus Joint Master Courses</a:t>
            </a:r>
            <a:endParaRPr b="1" lang="en-US" sz="16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a80"/>
                </a:solidFill>
                <a:latin typeface="Verdana"/>
                <a:ea typeface="Arial"/>
              </a:rPr>
              <a:t>Erasmus Mundus Joint Doctorates</a:t>
            </a:r>
            <a:endParaRPr b="1" lang="en-US" sz="1600" spc="-1" strike="noStrike">
              <a:solidFill>
                <a:srgbClr val="ffd624"/>
              </a:solidFill>
              <a:latin typeface="Verdana"/>
            </a:endParaRPr>
          </a:p>
        </p:txBody>
      </p:sp>
      <p:sp>
        <p:nvSpPr>
          <p:cNvPr id="1094" name="Rounded Rectangle 14"/>
          <p:cNvSpPr/>
          <p:nvPr/>
        </p:nvSpPr>
        <p:spPr>
          <a:xfrm>
            <a:off x="503280" y="4005360"/>
            <a:ext cx="5076720" cy="815760"/>
          </a:xfrm>
          <a:prstGeom prst="roundRect">
            <a:avLst>
              <a:gd name="adj" fmla="val 16667"/>
            </a:avLst>
          </a:prstGeom>
          <a:solidFill>
            <a:srgbClr val="69ae23"/>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a80"/>
                </a:solidFill>
                <a:latin typeface="Verdana"/>
                <a:ea typeface="Arial"/>
              </a:rPr>
              <a:t>Acción 2: </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a80"/>
                </a:solidFill>
                <a:latin typeface="Verdana"/>
                <a:ea typeface="Arial"/>
              </a:rPr>
              <a:t>Erasmus Mundus Partenariados</a:t>
            </a:r>
            <a:endParaRPr b="1" lang="en-US" sz="1600" spc="-1" strike="noStrike">
              <a:solidFill>
                <a:srgbClr val="ffd624"/>
              </a:solidFill>
              <a:latin typeface="Verdana"/>
            </a:endParaRPr>
          </a:p>
        </p:txBody>
      </p:sp>
      <p:sp>
        <p:nvSpPr>
          <p:cNvPr id="1095" name="Rounded Rectangle 15"/>
          <p:cNvSpPr/>
          <p:nvPr/>
        </p:nvSpPr>
        <p:spPr>
          <a:xfrm>
            <a:off x="468360" y="5089680"/>
            <a:ext cx="8137440" cy="1076040"/>
          </a:xfrm>
          <a:prstGeom prst="roundRect">
            <a:avLst>
              <a:gd name="adj" fmla="val 16667"/>
            </a:avLst>
          </a:prstGeom>
          <a:solidFill>
            <a:srgbClr val="9c9cd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a80"/>
                </a:solidFill>
                <a:latin typeface="Verdana"/>
              </a:rPr>
              <a:t>Acción 3:</a:t>
            </a:r>
            <a:endParaRPr b="1" lang="en-US" sz="20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a80"/>
                </a:solidFill>
                <a:latin typeface="Verdana"/>
              </a:rPr>
              <a:t>Proyectos de promoción de la educación superior europea</a:t>
            </a:r>
            <a:endParaRPr b="1" lang="en-US" sz="1600" spc="-1" strike="noStrike">
              <a:solidFill>
                <a:srgbClr val="ffd624"/>
              </a:solidFill>
              <a:latin typeface="Verdana"/>
            </a:endParaRPr>
          </a:p>
        </p:txBody>
      </p:sp>
      <p:sp>
        <p:nvSpPr>
          <p:cNvPr id="1096" name="Right Brace 5"/>
          <p:cNvSpPr/>
          <p:nvPr/>
        </p:nvSpPr>
        <p:spPr>
          <a:xfrm>
            <a:off x="5580000" y="2557440"/>
            <a:ext cx="539640" cy="2263680"/>
          </a:xfrm>
          <a:custGeom>
            <a:avLst/>
            <a:gdLst>
              <a:gd name="textAreaLeft" fmla="*/ 0 w 539640"/>
              <a:gd name="textAreaRight" fmla="*/ 194760 w 539640"/>
              <a:gd name="textAreaTop" fmla="*/ 69120 h 2263680"/>
              <a:gd name="textAreaBottom" fmla="*/ 2194560 h 2263680"/>
            </a:gdLst>
            <a:ahLst/>
            <a:rect l="textAreaLeft" t="textAreaTop" r="textAreaRight" b="textAreaBottom"/>
            <a:pathLst>
              <a:path w="21600" h="21600">
                <a:moveTo>
                  <a:pt x="0" y="0"/>
                </a:moveTo>
                <a:cubicBezTo>
                  <a:pt x="5400" y="0"/>
                  <a:pt x="10800" y="1056"/>
                  <a:pt x="10800" y="2112"/>
                </a:cubicBezTo>
                <a:lnTo>
                  <a:pt x="10800" y="8688"/>
                </a:lnTo>
                <a:cubicBezTo>
                  <a:pt x="10800" y="9744"/>
                  <a:pt x="16200" y="10800"/>
                  <a:pt x="21600" y="10800"/>
                </a:cubicBezTo>
                <a:cubicBezTo>
                  <a:pt x="16200" y="10800"/>
                  <a:pt x="10800" y="11856"/>
                  <a:pt x="10800" y="12912"/>
                </a:cubicBezTo>
                <a:lnTo>
                  <a:pt x="10800" y="19488"/>
                </a:lnTo>
                <a:cubicBezTo>
                  <a:pt x="10800" y="20544"/>
                  <a:pt x="5400" y="21600"/>
                  <a:pt x="0" y="21600"/>
                </a:cubicBezTo>
              </a:path>
            </a:pathLst>
          </a:custGeom>
          <a:noFill/>
          <a:ln w="34920">
            <a:solidFill>
              <a:srgbClr val="000000"/>
            </a:solidFill>
            <a:beve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097" name="Rounded Rectangle 13"/>
          <p:cNvSpPr/>
          <p:nvPr/>
        </p:nvSpPr>
        <p:spPr>
          <a:xfrm>
            <a:off x="6191280" y="2527200"/>
            <a:ext cx="2628720" cy="225288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u="sng">
                <a:solidFill>
                  <a:srgbClr val="003a80"/>
                </a:solidFill>
                <a:uFillTx/>
                <a:latin typeface="Verdana"/>
                <a:ea typeface="Arial"/>
              </a:rPr>
              <a:t>BECAS</a:t>
            </a:r>
            <a:endParaRPr b="1" lang="en-US" sz="16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u="sng">
                <a:solidFill>
                  <a:srgbClr val="003a80"/>
                </a:solidFill>
                <a:uFillTx/>
                <a:latin typeface="Verdana"/>
                <a:ea typeface="Arial"/>
              </a:rPr>
              <a:t>Estudiantes</a:t>
            </a:r>
            <a:endParaRPr b="1" lang="en-US" sz="1600" spc="-1" strike="noStrike">
              <a:solidFill>
                <a:srgbClr val="ffd624"/>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a80"/>
                </a:solidFill>
                <a:latin typeface="Verdana"/>
                <a:ea typeface="Arial"/>
              </a:rPr>
              <a:t>(pregrado, maestria, doctorado y post doctorado) y personal (acad/admin.)</a:t>
            </a:r>
            <a:endParaRPr b="1" lang="en-US" sz="16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68360" y="1197000"/>
            <a:ext cx="8229600" cy="936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EM-Acción 2 </a:t>
            </a:r>
            <a:br>
              <a:rPr sz="3000"/>
            </a:br>
            <a:r>
              <a:rPr b="1" lang="fr-BE" sz="3000" spc="-1" strike="noStrike">
                <a:solidFill>
                  <a:srgbClr val="0f5494"/>
                </a:solidFill>
                <a:latin typeface="Verdana"/>
              </a:rPr>
              <a:t>Partenariados 2007-2013</a:t>
            </a:r>
            <a:endParaRPr b="1" lang="en-US" sz="3000" spc="-1" strike="noStrike">
              <a:solidFill>
                <a:srgbClr val="0f5494"/>
              </a:solidFill>
              <a:latin typeface="Verdana"/>
            </a:endParaRPr>
          </a:p>
        </p:txBody>
      </p:sp>
      <p:sp>
        <p:nvSpPr>
          <p:cNvPr id="1099" name=""/>
          <p:cNvSpPr txBox="1"/>
          <p:nvPr/>
        </p:nvSpPr>
        <p:spPr>
          <a:xfrm>
            <a:off x="457200" y="2565360"/>
            <a:ext cx="8578800" cy="3167280"/>
          </a:xfrm>
          <a:prstGeom prst="rect">
            <a:avLst/>
          </a:prstGeom>
          <a:noFill/>
          <a:ln w="0">
            <a:noFill/>
          </a:ln>
        </p:spPr>
        <p:txBody>
          <a:bodyPr anchor="t">
            <a:normAutofit/>
          </a:bodyPr>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277 partenariados </a:t>
            </a:r>
            <a:endParaRPr b="0" i="1" lang="en-US" sz="2800" spc="-1" strike="noStrike">
              <a:solidFill>
                <a:srgbClr val="0f5494"/>
              </a:solidFill>
              <a:latin typeface="Verdana"/>
            </a:endParaRPr>
          </a:p>
          <a:p>
            <a:pPr marL="343080" indent="-343080">
              <a:spcBef>
                <a:spcPts val="601"/>
              </a:spcBef>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43080" indent="-343080">
              <a:spcAft>
                <a:spcPts val="601"/>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f5494"/>
                </a:solidFill>
                <a:latin typeface="Verdana"/>
              </a:rPr>
              <a:t>1.421 universidades</a:t>
            </a:r>
            <a:endParaRPr b="0" i="1" lang="en-US" sz="2800" spc="-1" strike="noStrike">
              <a:solidFill>
                <a:srgbClr val="0f5494"/>
              </a:solidFill>
              <a:latin typeface="Verdana"/>
            </a:endParaRPr>
          </a:p>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0f5494"/>
                </a:solidFill>
                <a:latin typeface="Verdana"/>
              </a:rPr>
              <a:t>409 UE y 1.012 no-UE</a:t>
            </a:r>
            <a:endParaRPr b="0" i="1" lang="en-US" sz="2800" spc="-1" strike="noStrike">
              <a:solidFill>
                <a:srgbClr val="0f5494"/>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a:p>
            <a:pPr marL="343080" indent="-343080">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f5494"/>
                </a:solidFill>
                <a:latin typeface="Verdana"/>
              </a:rPr>
              <a:t>44.490 movilidades hasta la fecha </a:t>
            </a:r>
            <a:endParaRPr b="0" i="1" lang="en-US" sz="2800" spc="-1" strike="noStrike">
              <a:solidFill>
                <a:srgbClr val="0f5494"/>
              </a:solidFill>
              <a:latin typeface="Verdana"/>
            </a:endParaRPr>
          </a:p>
          <a:p>
            <a:pPr marL="343080" indent="-343080">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
          <p:cNvSpPr txBox="1"/>
          <p:nvPr/>
        </p:nvSpPr>
        <p:spPr>
          <a:xfrm>
            <a:off x="457200" y="2276640"/>
            <a:ext cx="8229600" cy="392256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Un total de </a:t>
            </a:r>
            <a:r>
              <a:rPr b="1" lang="fr-BE" sz="2400" spc="-1" strike="noStrike">
                <a:solidFill>
                  <a:srgbClr val="0f5494"/>
                </a:solidFill>
                <a:latin typeface="Verdana"/>
              </a:rPr>
              <a:t>196 universidades de América Latina </a:t>
            </a:r>
            <a:r>
              <a:rPr b="0" lang="fr-BE" sz="2400" spc="-1" strike="noStrike">
                <a:solidFill>
                  <a:srgbClr val="0f5494"/>
                </a:solidFill>
                <a:latin typeface="Verdana"/>
              </a:rPr>
              <a:t>participaron en:</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27 proyectos en el lote Regional  </a:t>
            </a:r>
            <a:r>
              <a:rPr b="0" lang="fr-BE" sz="2400" spc="-1" strike="noStrike">
                <a:solidFill>
                  <a:srgbClr val="0f5494"/>
                </a:solidFill>
                <a:latin typeface="Verdana"/>
              </a:rPr>
              <a:t>(2009-12-13)</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f5494"/>
                </a:solidFill>
                <a:latin typeface="Verdana"/>
              </a:rPr>
              <a:t>18 proyectos en lotes  bilaterales </a:t>
            </a:r>
            <a:r>
              <a:rPr b="0" lang="fr-BE" sz="2400" spc="-1" strike="noStrike">
                <a:solidFill>
                  <a:srgbClr val="0f5494"/>
                </a:solidFill>
                <a:latin typeface="Verdana"/>
              </a:rPr>
              <a:t>(2008-09-10-11-13)</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Total 2009-2014 = </a:t>
            </a:r>
            <a:r>
              <a:rPr b="1" lang="fr-BE" sz="2400" spc="-1" strike="noStrike">
                <a:solidFill>
                  <a:srgbClr val="0f5494"/>
                </a:solidFill>
                <a:latin typeface="Verdana"/>
              </a:rPr>
              <a:t>53 partenariados</a:t>
            </a: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Verdana"/>
              </a:rPr>
              <a:t>Presupuesto total América Latina 161 M€ </a:t>
            </a:r>
            <a:endParaRPr b="0" i="1" lang="en-US" sz="2400" spc="-1" strike="noStrike">
              <a:solidFill>
                <a:srgbClr val="0f5494"/>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01" name="Title 1"/>
          <p:cNvSpPr/>
          <p:nvPr/>
        </p:nvSpPr>
        <p:spPr>
          <a:xfrm>
            <a:off x="468360" y="1197000"/>
            <a:ext cx="8229600" cy="863640"/>
          </a:xfrm>
          <a:prstGeom prst="rect">
            <a:avLst/>
          </a:prstGeom>
          <a:noFill/>
          <a:ln w="0">
            <a:noFill/>
          </a:ln>
        </p:spPr>
        <p:style>
          <a:lnRef idx="0"/>
          <a:fillRef idx="0"/>
          <a:effectRef idx="0"/>
          <a:fontRef idx="minor"/>
        </p:style>
        <p:txBody>
          <a:bodyPr lIns="90000" rIns="90000" tIns="46800" bIns="46800" anchor="ctr">
            <a:normAutofit fontScale="84000"/>
          </a:bodyPr>
          <a:p>
            <a:pPr marL="301320" indent="-3013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ea typeface="Arial"/>
              </a:rPr>
              <a:t>EM Acción 2 </a:t>
            </a:r>
            <a:r>
              <a:rPr b="1" lang="en-GB" sz="3000" spc="-1" strike="noStrike">
                <a:solidFill>
                  <a:srgbClr val="0f5494"/>
                </a:solidFill>
                <a:latin typeface="Verdana"/>
                <a:ea typeface="Arial"/>
              </a:rPr>
              <a:t>: </a:t>
            </a:r>
            <a:endParaRPr b="1" lang="en-US" sz="3000" spc="-1" strike="noStrike">
              <a:solidFill>
                <a:srgbClr val="ffd624"/>
              </a:solidFill>
              <a:latin typeface="Verdana"/>
            </a:endParaRPr>
          </a:p>
          <a:p>
            <a:pPr marL="301320" indent="-3013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ea typeface="Arial"/>
              </a:rPr>
              <a:t>Partenariados América Latina</a:t>
            </a:r>
            <a:endParaRPr b="1" lang="en-US" sz="3000" spc="-1" strike="noStrike">
              <a:solidFill>
                <a:srgbClr val="ffd62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2" name="Picture 11" descr="C:\Users\saenzaa\Desktop\Logos partenariados EM\logo-em-2.png"/>
          <p:cNvPicPr/>
          <p:nvPr/>
        </p:nvPicPr>
        <p:blipFill>
          <a:blip r:embed="rId1"/>
          <a:stretch/>
        </p:blipFill>
        <p:spPr>
          <a:xfrm>
            <a:off x="5435640" y="1268280"/>
            <a:ext cx="3048120" cy="1047960"/>
          </a:xfrm>
          <a:prstGeom prst="rect">
            <a:avLst/>
          </a:prstGeom>
          <a:ln w="0">
            <a:noFill/>
          </a:ln>
        </p:spPr>
      </p:pic>
      <p:pic>
        <p:nvPicPr>
          <p:cNvPr id="1103" name="Picture 12" descr="C:\Users\saenzaa\Desktop\Logos partenariados EM\Mundus Lindo.gif"/>
          <p:cNvPicPr/>
          <p:nvPr/>
        </p:nvPicPr>
        <p:blipFill>
          <a:blip r:embed="rId2"/>
          <a:stretch/>
        </p:blipFill>
        <p:spPr>
          <a:xfrm>
            <a:off x="3179880" y="5157720"/>
            <a:ext cx="1057320" cy="952560"/>
          </a:xfrm>
          <a:prstGeom prst="rect">
            <a:avLst/>
          </a:prstGeom>
          <a:ln w="0">
            <a:noFill/>
          </a:ln>
        </p:spPr>
      </p:pic>
      <p:pic>
        <p:nvPicPr>
          <p:cNvPr id="1104" name="Picture 13" descr="C:\Users\saenzaa\Desktop\Logos partenariados EM\202925_1peace-logotype.jpg"/>
          <p:cNvPicPr/>
          <p:nvPr/>
        </p:nvPicPr>
        <p:blipFill>
          <a:blip r:embed="rId3"/>
          <a:stretch/>
        </p:blipFill>
        <p:spPr>
          <a:xfrm>
            <a:off x="150840" y="1247760"/>
            <a:ext cx="3916440" cy="1682640"/>
          </a:xfrm>
          <a:prstGeom prst="rect">
            <a:avLst/>
          </a:prstGeom>
          <a:ln w="0">
            <a:noFill/>
          </a:ln>
        </p:spPr>
      </p:pic>
      <p:pic>
        <p:nvPicPr>
          <p:cNvPr id="1105" name="Picture 15" descr="C:\Users\saenzaa\Desktop\Logos partenariados EM\BABEL.gif"/>
          <p:cNvPicPr/>
          <p:nvPr/>
        </p:nvPicPr>
        <p:blipFill>
          <a:blip r:embed="rId4"/>
          <a:stretch/>
        </p:blipFill>
        <p:spPr>
          <a:xfrm>
            <a:off x="6516720" y="5521320"/>
            <a:ext cx="1762200" cy="762120"/>
          </a:xfrm>
          <a:prstGeom prst="rect">
            <a:avLst/>
          </a:prstGeom>
          <a:ln w="0">
            <a:noFill/>
          </a:ln>
        </p:spPr>
      </p:pic>
      <p:pic>
        <p:nvPicPr>
          <p:cNvPr id="1106" name="Picture 16" descr="C:\Users\saenzaa\Desktop\Logos partenariados EM\Bemundus.gif"/>
          <p:cNvPicPr/>
          <p:nvPr/>
        </p:nvPicPr>
        <p:blipFill>
          <a:blip r:embed="rId5"/>
          <a:stretch/>
        </p:blipFill>
        <p:spPr>
          <a:xfrm>
            <a:off x="3708360" y="3716280"/>
            <a:ext cx="1847880" cy="952560"/>
          </a:xfrm>
          <a:prstGeom prst="rect">
            <a:avLst/>
          </a:prstGeom>
          <a:ln w="0">
            <a:noFill/>
          </a:ln>
        </p:spPr>
      </p:pic>
      <p:pic>
        <p:nvPicPr>
          <p:cNvPr id="1107" name="Picture 17" descr="C:\Users\saenzaa\Desktop\Logos partenariados EM\image_mini.jpg"/>
          <p:cNvPicPr/>
          <p:nvPr/>
        </p:nvPicPr>
        <p:blipFill>
          <a:blip r:embed="rId6"/>
          <a:stretch/>
        </p:blipFill>
        <p:spPr>
          <a:xfrm>
            <a:off x="179280" y="3645000"/>
            <a:ext cx="1905120" cy="933480"/>
          </a:xfrm>
          <a:prstGeom prst="rect">
            <a:avLst/>
          </a:prstGeom>
          <a:ln w="0">
            <a:noFill/>
          </a:ln>
        </p:spPr>
      </p:pic>
      <p:pic>
        <p:nvPicPr>
          <p:cNvPr id="1108" name="Picture 18" descr="C:\Users\saenzaa\Desktop\Logos partenariados EM\logo.gif"/>
          <p:cNvPicPr/>
          <p:nvPr/>
        </p:nvPicPr>
        <p:blipFill>
          <a:blip r:embed="rId7"/>
          <a:stretch/>
        </p:blipFill>
        <p:spPr>
          <a:xfrm>
            <a:off x="711360" y="5032440"/>
            <a:ext cx="1514160" cy="447480"/>
          </a:xfrm>
          <a:prstGeom prst="rect">
            <a:avLst/>
          </a:prstGeom>
          <a:ln w="0">
            <a:noFill/>
          </a:ln>
        </p:spPr>
      </p:pic>
      <p:pic>
        <p:nvPicPr>
          <p:cNvPr id="1109" name="Picture 19" descr="C:\Users\saenzaa\Desktop\Logos partenariados EM\logo_fellow.png"/>
          <p:cNvPicPr/>
          <p:nvPr/>
        </p:nvPicPr>
        <p:blipFill>
          <a:blip r:embed="rId8"/>
          <a:stretch/>
        </p:blipFill>
        <p:spPr>
          <a:xfrm>
            <a:off x="6372360" y="3068640"/>
            <a:ext cx="2705040" cy="170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10" name=""/>
          <p:cNvSpPr txBox="1"/>
          <p:nvPr/>
        </p:nvSpPr>
        <p:spPr>
          <a:xfrm>
            <a:off x="457200" y="2565360"/>
            <a:ext cx="8229600" cy="3633840"/>
          </a:xfrm>
          <a:prstGeom prst="rect">
            <a:avLst/>
          </a:prstGeom>
          <a:noFill/>
          <a:ln w="0">
            <a:noFill/>
          </a:ln>
        </p:spPr>
        <p:txBody>
          <a:bodyPr anchor="t">
            <a:normAutofit/>
          </a:bodyPr>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pic>
        <p:nvPicPr>
          <p:cNvPr id="1111" name="Diagram 3" descr=""/>
          <p:cNvPicPr/>
          <p:nvPr/>
        </p:nvPicPr>
        <p:blipFill>
          <a:blip r:embed="rId1"/>
          <a:stretch/>
        </p:blipFill>
        <p:spPr>
          <a:xfrm>
            <a:off x="609480" y="1341360"/>
            <a:ext cx="7778880" cy="47912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f5494"/>
                </a:solidFill>
                <a:latin typeface="Verdana"/>
              </a:rPr>
              <a:t>Prioridades</a:t>
            </a:r>
            <a:endParaRPr b="1" lang="en-US" sz="3200" spc="-1" strike="noStrike">
              <a:solidFill>
                <a:srgbClr val="0f5494"/>
              </a:solidFill>
              <a:latin typeface="Verdana"/>
            </a:endParaRPr>
          </a:p>
        </p:txBody>
      </p:sp>
      <p:sp>
        <p:nvSpPr>
          <p:cNvPr id="1113" name=""/>
          <p:cNvSpPr txBox="1"/>
          <p:nvPr/>
        </p:nvSpPr>
        <p:spPr>
          <a:xfrm>
            <a:off x="457200" y="2565360"/>
            <a:ext cx="8229600" cy="3633840"/>
          </a:xfrm>
          <a:prstGeom prst="rect">
            <a:avLst/>
          </a:prstGeom>
          <a:noFill/>
          <a:ln w="0">
            <a:noFill/>
          </a:ln>
        </p:spPr>
        <p:txBody>
          <a:bodyPr anchor="t">
            <a:normAutofit/>
          </a:bodyPr>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f5494"/>
                </a:solidFill>
                <a:latin typeface="Verdana"/>
              </a:rPr>
              <a:t>Importancia por el desarrollo económico y social de la región de AL</a:t>
            </a:r>
            <a:endParaRPr b="0" i="1" lang="en-US" sz="18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rPr>
              <a:t>Cubertura geográfica (Países Grupo A) / Integración de instituciones y estudiantes en areas remotas</a:t>
            </a:r>
            <a:endParaRPr b="1" lang="en-US" sz="14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rPr>
              <a:t>TG 3: grupos vulnerables</a:t>
            </a:r>
            <a:endParaRPr b="1" lang="en-US" sz="1400" spc="-1" strike="noStrike">
              <a:solidFill>
                <a:srgbClr val="0f5494"/>
              </a:solidFill>
              <a:latin typeface="Verdana"/>
            </a:endParaRPr>
          </a:p>
          <a:p>
            <a:pPr lvl="1" marL="743040" indent="-28584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f5494"/>
                </a:solidFill>
                <a:latin typeface="Verdana"/>
              </a:rPr>
              <a:t>Igualdad de género, estudiantes  en desventaja socio-económica</a:t>
            </a:r>
            <a:r>
              <a:rPr b="1" lang="fr-BE" sz="1800" spc="-1" strike="noStrike">
                <a:solidFill>
                  <a:srgbClr val="0f5494"/>
                </a:solidFill>
                <a:latin typeface="Verdana"/>
              </a:rPr>
              <a:t>	</a:t>
            </a:r>
            <a:endParaRPr b="1" lang="en-US" sz="1800" spc="-1" strike="noStrike">
              <a:solidFill>
                <a:srgbClr val="0f5494"/>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Title 1"/>
          <p:cNvSpPr/>
          <p:nvPr/>
        </p:nvSpPr>
        <p:spPr>
          <a:xfrm>
            <a:off x="46080" y="150840"/>
            <a:ext cx="3457440" cy="922320"/>
          </a:xfrm>
          <a:prstGeom prst="rect">
            <a:avLst/>
          </a:prstGeom>
          <a:noFill/>
          <a:ln w="0">
            <a:noFill/>
          </a:ln>
        </p:spPr>
        <p:style>
          <a:lnRef idx="0"/>
          <a:fillRef idx="0"/>
          <a:effectRef idx="0"/>
          <a:fontRef idx="minor"/>
        </p:style>
        <p:txBody>
          <a:bodyPr lIns="90000" rIns="90000" tIns="46800" bIns="46800" anchor="t">
            <a:normAutofit fontScale="5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1" lang="en-GB" sz="3200" spc="-1" strike="noStrike">
                <a:solidFill>
                  <a:srgbClr val="ffffff"/>
                </a:solidFill>
                <a:latin typeface="Verdana"/>
              </a:rPr>
              <a:t>ARGENTINA</a:t>
            </a:r>
            <a:endParaRPr b="1" lang="en-US" sz="32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Verdana"/>
              </a:rPr>
              <a:t>Prioridad Geográfica</a:t>
            </a:r>
            <a:endParaRPr b="1" lang="en-US" sz="18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1" lang="en-US" sz="2000" spc="-1" strike="noStrike">
              <a:solidFill>
                <a:srgbClr val="ffd624"/>
              </a:solidFill>
              <a:latin typeface="Verdana"/>
            </a:endParaRPr>
          </a:p>
        </p:txBody>
      </p:sp>
      <p:sp>
        <p:nvSpPr>
          <p:cNvPr id="1115" name="Freeform 43"/>
          <p:cNvSpPr/>
          <p:nvPr/>
        </p:nvSpPr>
        <p:spPr>
          <a:xfrm>
            <a:off x="4508640" y="4014720"/>
            <a:ext cx="68040" cy="138240"/>
          </a:xfrm>
          <a:custGeom>
            <a:avLst/>
            <a:gdLst/>
            <a:ahLst/>
            <a:rect l="l" t="t" r="r" b="b"/>
            <a:pathLst>
              <a:path w="74140" h="148281">
                <a:moveTo>
                  <a:pt x="61783" y="0"/>
                </a:moveTo>
                <a:lnTo>
                  <a:pt x="0" y="30891"/>
                </a:lnTo>
                <a:lnTo>
                  <a:pt x="6178" y="142102"/>
                </a:lnTo>
                <a:lnTo>
                  <a:pt x="74140" y="148281"/>
                </a:lnTo>
                <a:lnTo>
                  <a:pt x="61783" y="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16" name="Freeform 44"/>
          <p:cNvSpPr/>
          <p:nvPr/>
        </p:nvSpPr>
        <p:spPr>
          <a:xfrm>
            <a:off x="4554360" y="6561000"/>
            <a:ext cx="103320" cy="46080"/>
          </a:xfrm>
          <a:custGeom>
            <a:avLst/>
            <a:gdLst/>
            <a:ahLst/>
            <a:rect l="l" t="t" r="r" b="b"/>
            <a:pathLst>
              <a:path w="111211" h="49427">
                <a:moveTo>
                  <a:pt x="18535" y="0"/>
                </a:moveTo>
                <a:lnTo>
                  <a:pt x="0" y="49427"/>
                </a:lnTo>
                <a:lnTo>
                  <a:pt x="61784" y="37070"/>
                </a:lnTo>
                <a:lnTo>
                  <a:pt x="111211" y="0"/>
                </a:lnTo>
                <a:lnTo>
                  <a:pt x="18535" y="0"/>
                </a:lnTo>
                <a:close/>
              </a:path>
            </a:pathLst>
          </a:custGeom>
          <a:solidFill>
            <a:srgbClr val="006c86"/>
          </a:solidFill>
          <a:ln w="12600">
            <a:solidFill>
              <a:srgbClr val="00b0f0"/>
            </a:solidFill>
            <a:round/>
          </a:ln>
        </p:spPr>
        <p:style>
          <a:lnRef idx="0"/>
          <a:fillRef idx="0"/>
          <a:effectRef idx="0"/>
          <a:fontRef idx="minor"/>
        </p:style>
        <p:txBody>
          <a:bodyPr lIns="90000" rIns="90000" tIns="-720" bIns="-720" anchor="t">
            <a:noAutofit/>
          </a:bodyPr>
          <a:p>
            <a:endParaRPr b="1" lang="en-US" sz="7600" spc="-1" strike="noStrike">
              <a:solidFill>
                <a:srgbClr val="ffd624"/>
              </a:solidFill>
              <a:latin typeface="Verdana"/>
            </a:endParaRPr>
          </a:p>
        </p:txBody>
      </p:sp>
      <p:sp>
        <p:nvSpPr>
          <p:cNvPr id="1117" name="Freeform 51"/>
          <p:cNvSpPr/>
          <p:nvPr/>
        </p:nvSpPr>
        <p:spPr>
          <a:xfrm>
            <a:off x="6138720" y="5538960"/>
            <a:ext cx="47880" cy="7920"/>
          </a:xfrm>
          <a:custGeom>
            <a:avLst/>
            <a:gdLst/>
            <a:ahLst/>
            <a:rect l="l" t="t" r="r" b="b"/>
            <a:pathLst>
              <a:path w="50659" h="7599">
                <a:moveTo>
                  <a:pt x="0" y="0"/>
                </a:moveTo>
                <a:lnTo>
                  <a:pt x="-14877" y="7599"/>
                </a:lnTo>
                <a:lnTo>
                  <a:pt x="0" y="0"/>
                </a:lnTo>
                <a:close/>
              </a:path>
            </a:pathLst>
          </a:custGeom>
          <a:solidFill>
            <a:srgbClr val="006c86"/>
          </a:solidFill>
          <a:ln w="12600">
            <a:solidFill>
              <a:srgbClr val="00b0f0"/>
            </a:solidFill>
            <a:round/>
          </a:ln>
        </p:spPr>
        <p:style>
          <a:lnRef idx="0"/>
          <a:fillRef idx="0"/>
          <a:effectRef idx="0"/>
          <a:fontRef idx="minor"/>
        </p:style>
        <p:txBody>
          <a:bodyPr lIns="90000" rIns="90000" tIns="-38880" bIns="-38880" anchor="t">
            <a:noAutofit/>
          </a:bodyPr>
          <a:p>
            <a:endParaRPr b="1" lang="en-US" sz="7600" spc="-1" strike="noStrike">
              <a:solidFill>
                <a:srgbClr val="ffd624"/>
              </a:solidFill>
              <a:latin typeface="Verdana"/>
            </a:endParaRPr>
          </a:p>
        </p:txBody>
      </p:sp>
      <p:sp>
        <p:nvSpPr>
          <p:cNvPr id="1118" name="Freeform 5"/>
          <p:cNvSpPr/>
          <p:nvPr/>
        </p:nvSpPr>
        <p:spPr>
          <a:xfrm>
            <a:off x="4060800" y="6184800"/>
            <a:ext cx="447840" cy="452520"/>
          </a:xfrm>
          <a:custGeom>
            <a:avLst/>
            <a:gdLst/>
            <a:ahLst/>
            <a:rect l="l" t="t" r="r" b="b"/>
            <a:pathLst>
              <a:path w="481913" h="488091">
                <a:moveTo>
                  <a:pt x="0" y="0"/>
                </a:moveTo>
                <a:lnTo>
                  <a:pt x="74140" y="475735"/>
                </a:lnTo>
                <a:lnTo>
                  <a:pt x="191529" y="457200"/>
                </a:lnTo>
                <a:lnTo>
                  <a:pt x="333632" y="488091"/>
                </a:lnTo>
                <a:lnTo>
                  <a:pt x="420129" y="457200"/>
                </a:lnTo>
                <a:lnTo>
                  <a:pt x="481913" y="383059"/>
                </a:lnTo>
                <a:lnTo>
                  <a:pt x="364524" y="407772"/>
                </a:lnTo>
                <a:lnTo>
                  <a:pt x="228600" y="327454"/>
                </a:lnTo>
                <a:lnTo>
                  <a:pt x="135924" y="210064"/>
                </a:lnTo>
                <a:lnTo>
                  <a:pt x="0" y="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19" name="TextBox 55"/>
          <p:cNvSpPr/>
          <p:nvPr/>
        </p:nvSpPr>
        <p:spPr>
          <a:xfrm>
            <a:off x="95400" y="2151000"/>
            <a:ext cx="2388960" cy="4425840"/>
          </a:xfrm>
          <a:prstGeom prst="rect">
            <a:avLst/>
          </a:prstGeom>
          <a:solidFill>
            <a:srgbClr val="f58220"/>
          </a:solidFill>
          <a:ln w="12600">
            <a:solidFill>
              <a:srgbClr val="00b0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2060"/>
                </a:solidFill>
                <a:latin typeface="Calibri"/>
                <a:ea typeface="ＭＳ Ｐゴシック"/>
              </a:rPr>
              <a:t>Northwest Province</a:t>
            </a:r>
            <a:endParaRPr b="1" lang="en-US" sz="20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Santiago del Estero</a:t>
            </a:r>
            <a:endParaRPr b="1" lang="en-US" sz="18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Tucuman</a:t>
            </a:r>
            <a:endParaRPr b="1" lang="en-US" sz="18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Catamarca</a:t>
            </a:r>
            <a:endParaRPr b="1" lang="en-US" sz="18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Salta y Jujuy</a:t>
            </a:r>
            <a:endParaRPr b="1" lang="en-US" sz="18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CATAMARCA</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JUJUY</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SALTA</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SANTIAGO DEL ESTERO</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TUCAMAN</a:t>
            </a:r>
            <a:endParaRPr b="1" lang="en-US" sz="14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p:txBody>
      </p:sp>
      <p:sp>
        <p:nvSpPr>
          <p:cNvPr id="1120" name="Freeform 13"/>
          <p:cNvSpPr/>
          <p:nvPr/>
        </p:nvSpPr>
        <p:spPr>
          <a:xfrm>
            <a:off x="3911760" y="-22320"/>
            <a:ext cx="596880" cy="577800"/>
          </a:xfrm>
          <a:custGeom>
            <a:avLst/>
            <a:gdLst/>
            <a:ahLst/>
            <a:rect l="l" t="t" r="r" b="b"/>
            <a:pathLst>
              <a:path w="597665" h="578386">
                <a:moveTo>
                  <a:pt x="187287" y="0"/>
                </a:moveTo>
                <a:lnTo>
                  <a:pt x="143219" y="96398"/>
                </a:lnTo>
                <a:lnTo>
                  <a:pt x="68855" y="134957"/>
                </a:lnTo>
                <a:lnTo>
                  <a:pt x="24788" y="190041"/>
                </a:lnTo>
                <a:lnTo>
                  <a:pt x="13771" y="242371"/>
                </a:lnTo>
                <a:lnTo>
                  <a:pt x="57839" y="294701"/>
                </a:lnTo>
                <a:lnTo>
                  <a:pt x="0" y="432412"/>
                </a:lnTo>
                <a:lnTo>
                  <a:pt x="55084" y="435167"/>
                </a:lnTo>
                <a:lnTo>
                  <a:pt x="137711" y="512285"/>
                </a:lnTo>
                <a:lnTo>
                  <a:pt x="168007" y="504022"/>
                </a:lnTo>
                <a:lnTo>
                  <a:pt x="181778" y="402116"/>
                </a:lnTo>
                <a:lnTo>
                  <a:pt x="176270" y="360803"/>
                </a:lnTo>
                <a:lnTo>
                  <a:pt x="203812" y="330506"/>
                </a:lnTo>
                <a:lnTo>
                  <a:pt x="256142" y="399362"/>
                </a:lnTo>
                <a:lnTo>
                  <a:pt x="225846" y="446183"/>
                </a:lnTo>
                <a:lnTo>
                  <a:pt x="286439" y="470971"/>
                </a:lnTo>
                <a:lnTo>
                  <a:pt x="308472" y="537073"/>
                </a:lnTo>
                <a:lnTo>
                  <a:pt x="377328" y="542581"/>
                </a:lnTo>
                <a:lnTo>
                  <a:pt x="465463" y="578386"/>
                </a:lnTo>
                <a:lnTo>
                  <a:pt x="465463" y="578386"/>
                </a:lnTo>
                <a:lnTo>
                  <a:pt x="504022" y="572877"/>
                </a:lnTo>
                <a:lnTo>
                  <a:pt x="561860" y="531564"/>
                </a:lnTo>
                <a:lnTo>
                  <a:pt x="597665" y="457200"/>
                </a:lnTo>
                <a:lnTo>
                  <a:pt x="592157" y="410379"/>
                </a:lnTo>
                <a:lnTo>
                  <a:pt x="578385" y="338769"/>
                </a:lnTo>
                <a:lnTo>
                  <a:pt x="526055" y="360803"/>
                </a:lnTo>
                <a:lnTo>
                  <a:pt x="495759" y="336015"/>
                </a:lnTo>
                <a:lnTo>
                  <a:pt x="443429" y="363557"/>
                </a:lnTo>
                <a:lnTo>
                  <a:pt x="413132" y="256142"/>
                </a:lnTo>
                <a:lnTo>
                  <a:pt x="363557" y="239617"/>
                </a:lnTo>
                <a:lnTo>
                  <a:pt x="363557" y="154236"/>
                </a:lnTo>
                <a:lnTo>
                  <a:pt x="380082" y="85381"/>
                </a:lnTo>
                <a:lnTo>
                  <a:pt x="324998" y="85381"/>
                </a:lnTo>
                <a:lnTo>
                  <a:pt x="278176" y="60593"/>
                </a:lnTo>
                <a:lnTo>
                  <a:pt x="225846" y="68856"/>
                </a:lnTo>
                <a:lnTo>
                  <a:pt x="187287" y="0"/>
                </a:lnTo>
                <a:close/>
              </a:path>
            </a:pathLst>
          </a:custGeom>
          <a:solidFill>
            <a:srgbClr val="f58220"/>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1" name="Freeform 15"/>
          <p:cNvSpPr/>
          <p:nvPr/>
        </p:nvSpPr>
        <p:spPr>
          <a:xfrm>
            <a:off x="3668760" y="36360"/>
            <a:ext cx="1158840" cy="863640"/>
          </a:xfrm>
          <a:custGeom>
            <a:avLst/>
            <a:gdLst/>
            <a:ahLst/>
            <a:rect l="l" t="t" r="r" b="b"/>
            <a:pathLst>
              <a:path w="1159525" h="864824">
                <a:moveTo>
                  <a:pt x="619699" y="35805"/>
                </a:moveTo>
                <a:lnTo>
                  <a:pt x="696817" y="27542"/>
                </a:lnTo>
                <a:lnTo>
                  <a:pt x="782197" y="132202"/>
                </a:lnTo>
                <a:lnTo>
                  <a:pt x="840036" y="68855"/>
                </a:lnTo>
                <a:lnTo>
                  <a:pt x="820756" y="30296"/>
                </a:lnTo>
                <a:lnTo>
                  <a:pt x="867578" y="0"/>
                </a:lnTo>
                <a:lnTo>
                  <a:pt x="922663" y="41313"/>
                </a:lnTo>
                <a:lnTo>
                  <a:pt x="977747" y="13771"/>
                </a:lnTo>
                <a:lnTo>
                  <a:pt x="1096178" y="24788"/>
                </a:lnTo>
                <a:lnTo>
                  <a:pt x="1154017" y="118431"/>
                </a:lnTo>
                <a:lnTo>
                  <a:pt x="1159525" y="479234"/>
                </a:lnTo>
                <a:lnTo>
                  <a:pt x="969484" y="732622"/>
                </a:lnTo>
                <a:lnTo>
                  <a:pt x="815248" y="746393"/>
                </a:lnTo>
                <a:lnTo>
                  <a:pt x="760164" y="862070"/>
                </a:lnTo>
                <a:lnTo>
                  <a:pt x="655503" y="845544"/>
                </a:lnTo>
                <a:lnTo>
                  <a:pt x="608682" y="801477"/>
                </a:lnTo>
                <a:lnTo>
                  <a:pt x="553597" y="829019"/>
                </a:lnTo>
                <a:lnTo>
                  <a:pt x="548089" y="864824"/>
                </a:lnTo>
                <a:lnTo>
                  <a:pt x="465463" y="831773"/>
                </a:lnTo>
                <a:lnTo>
                  <a:pt x="413132" y="864824"/>
                </a:lnTo>
                <a:lnTo>
                  <a:pt x="347031" y="754655"/>
                </a:lnTo>
                <a:lnTo>
                  <a:pt x="393853" y="718850"/>
                </a:lnTo>
                <a:lnTo>
                  <a:pt x="388344" y="641732"/>
                </a:lnTo>
                <a:lnTo>
                  <a:pt x="209320" y="644487"/>
                </a:lnTo>
                <a:lnTo>
                  <a:pt x="181778" y="672029"/>
                </a:lnTo>
                <a:lnTo>
                  <a:pt x="41313" y="614190"/>
                </a:lnTo>
                <a:lnTo>
                  <a:pt x="0" y="575631"/>
                </a:lnTo>
                <a:lnTo>
                  <a:pt x="49576" y="501267"/>
                </a:lnTo>
                <a:lnTo>
                  <a:pt x="234108" y="429658"/>
                </a:lnTo>
                <a:lnTo>
                  <a:pt x="242371" y="371819"/>
                </a:lnTo>
                <a:lnTo>
                  <a:pt x="297455" y="374573"/>
                </a:lnTo>
                <a:lnTo>
                  <a:pt x="382836" y="459954"/>
                </a:lnTo>
                <a:lnTo>
                  <a:pt x="410378" y="454446"/>
                </a:lnTo>
                <a:lnTo>
                  <a:pt x="421395" y="305718"/>
                </a:lnTo>
                <a:lnTo>
                  <a:pt x="446183" y="269913"/>
                </a:lnTo>
                <a:lnTo>
                  <a:pt x="493005" y="327752"/>
                </a:lnTo>
                <a:lnTo>
                  <a:pt x="468217" y="391099"/>
                </a:lnTo>
                <a:lnTo>
                  <a:pt x="523301" y="418641"/>
                </a:lnTo>
                <a:lnTo>
                  <a:pt x="553597" y="479234"/>
                </a:lnTo>
                <a:lnTo>
                  <a:pt x="616944" y="481988"/>
                </a:lnTo>
                <a:lnTo>
                  <a:pt x="716096" y="520547"/>
                </a:lnTo>
                <a:lnTo>
                  <a:pt x="782197" y="481988"/>
                </a:lnTo>
                <a:lnTo>
                  <a:pt x="840036" y="385590"/>
                </a:lnTo>
                <a:lnTo>
                  <a:pt x="818002" y="275422"/>
                </a:lnTo>
                <a:lnTo>
                  <a:pt x="784952" y="308472"/>
                </a:lnTo>
                <a:lnTo>
                  <a:pt x="732622" y="272667"/>
                </a:lnTo>
                <a:lnTo>
                  <a:pt x="677537" y="302964"/>
                </a:lnTo>
                <a:lnTo>
                  <a:pt x="652749" y="198303"/>
                </a:lnTo>
                <a:lnTo>
                  <a:pt x="597665" y="184532"/>
                </a:lnTo>
                <a:lnTo>
                  <a:pt x="619699" y="35805"/>
                </a:lnTo>
                <a:close/>
              </a:path>
            </a:pathLst>
          </a:custGeom>
          <a:solidFill>
            <a:srgbClr val="f58220"/>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2" name="Freeform 25"/>
          <p:cNvSpPr/>
          <p:nvPr/>
        </p:nvSpPr>
        <p:spPr>
          <a:xfrm>
            <a:off x="3608280" y="663480"/>
            <a:ext cx="792360" cy="989280"/>
          </a:xfrm>
          <a:custGeom>
            <a:avLst/>
            <a:gdLst/>
            <a:ahLst/>
            <a:rect l="l" t="t" r="r" b="b"/>
            <a:pathLst>
              <a:path w="793215" h="988764">
                <a:moveTo>
                  <a:pt x="115677" y="0"/>
                </a:moveTo>
                <a:lnTo>
                  <a:pt x="79872" y="115677"/>
                </a:lnTo>
                <a:lnTo>
                  <a:pt x="129448" y="209321"/>
                </a:lnTo>
                <a:lnTo>
                  <a:pt x="79872" y="269914"/>
                </a:lnTo>
                <a:lnTo>
                  <a:pt x="151482" y="363557"/>
                </a:lnTo>
                <a:lnTo>
                  <a:pt x="129448" y="418641"/>
                </a:lnTo>
                <a:lnTo>
                  <a:pt x="46822" y="413133"/>
                </a:lnTo>
                <a:lnTo>
                  <a:pt x="33051" y="481988"/>
                </a:lnTo>
                <a:lnTo>
                  <a:pt x="0" y="512285"/>
                </a:lnTo>
                <a:lnTo>
                  <a:pt x="0" y="545335"/>
                </a:lnTo>
                <a:lnTo>
                  <a:pt x="123940" y="526056"/>
                </a:lnTo>
                <a:lnTo>
                  <a:pt x="143219" y="603174"/>
                </a:lnTo>
                <a:lnTo>
                  <a:pt x="168007" y="630716"/>
                </a:lnTo>
                <a:lnTo>
                  <a:pt x="212075" y="614191"/>
                </a:lnTo>
                <a:lnTo>
                  <a:pt x="220337" y="652750"/>
                </a:lnTo>
                <a:lnTo>
                  <a:pt x="352540" y="669275"/>
                </a:lnTo>
                <a:lnTo>
                  <a:pt x="382836" y="616945"/>
                </a:lnTo>
                <a:lnTo>
                  <a:pt x="443429" y="625207"/>
                </a:lnTo>
                <a:lnTo>
                  <a:pt x="504022" y="702326"/>
                </a:lnTo>
                <a:lnTo>
                  <a:pt x="495759" y="749147"/>
                </a:lnTo>
                <a:lnTo>
                  <a:pt x="641733" y="873087"/>
                </a:lnTo>
                <a:lnTo>
                  <a:pt x="677537" y="988764"/>
                </a:lnTo>
                <a:lnTo>
                  <a:pt x="768427" y="980501"/>
                </a:lnTo>
                <a:lnTo>
                  <a:pt x="757410" y="911646"/>
                </a:lnTo>
                <a:lnTo>
                  <a:pt x="793215" y="875841"/>
                </a:lnTo>
                <a:lnTo>
                  <a:pt x="782198" y="812494"/>
                </a:lnTo>
                <a:lnTo>
                  <a:pt x="757410" y="784952"/>
                </a:lnTo>
                <a:lnTo>
                  <a:pt x="762918" y="735376"/>
                </a:lnTo>
                <a:lnTo>
                  <a:pt x="707834" y="672029"/>
                </a:lnTo>
                <a:lnTo>
                  <a:pt x="699571" y="567369"/>
                </a:lnTo>
                <a:lnTo>
                  <a:pt x="672029" y="548089"/>
                </a:lnTo>
                <a:lnTo>
                  <a:pt x="638978" y="572877"/>
                </a:lnTo>
                <a:lnTo>
                  <a:pt x="572877" y="487497"/>
                </a:lnTo>
                <a:lnTo>
                  <a:pt x="564615" y="424150"/>
                </a:lnTo>
                <a:lnTo>
                  <a:pt x="515039" y="404870"/>
                </a:lnTo>
                <a:lnTo>
                  <a:pt x="550843" y="366311"/>
                </a:lnTo>
                <a:lnTo>
                  <a:pt x="553598" y="305718"/>
                </a:lnTo>
                <a:lnTo>
                  <a:pt x="534318" y="289193"/>
                </a:lnTo>
                <a:lnTo>
                  <a:pt x="545335" y="212075"/>
                </a:lnTo>
                <a:lnTo>
                  <a:pt x="470971" y="236863"/>
                </a:lnTo>
                <a:lnTo>
                  <a:pt x="413133" y="129448"/>
                </a:lnTo>
                <a:lnTo>
                  <a:pt x="457200" y="85381"/>
                </a:lnTo>
                <a:lnTo>
                  <a:pt x="446183" y="5509"/>
                </a:lnTo>
                <a:lnTo>
                  <a:pt x="275422" y="16526"/>
                </a:lnTo>
                <a:lnTo>
                  <a:pt x="236863" y="49576"/>
                </a:lnTo>
                <a:lnTo>
                  <a:pt x="115677" y="0"/>
                </a:lnTo>
                <a:close/>
              </a:path>
            </a:pathLst>
          </a:custGeom>
          <a:solidFill>
            <a:srgbClr val="f58220"/>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3" name="Freeform 31"/>
          <p:cNvSpPr/>
          <p:nvPr/>
        </p:nvSpPr>
        <p:spPr>
          <a:xfrm>
            <a:off x="4130640" y="836640"/>
            <a:ext cx="309600" cy="404640"/>
          </a:xfrm>
          <a:custGeom>
            <a:avLst/>
            <a:gdLst/>
            <a:ahLst/>
            <a:rect l="l" t="t" r="r" b="b"/>
            <a:pathLst>
              <a:path w="308473" h="404870">
                <a:moveTo>
                  <a:pt x="77118" y="63347"/>
                </a:moveTo>
                <a:lnTo>
                  <a:pt x="24788" y="41313"/>
                </a:lnTo>
                <a:lnTo>
                  <a:pt x="16526" y="123940"/>
                </a:lnTo>
                <a:lnTo>
                  <a:pt x="38559" y="151482"/>
                </a:lnTo>
                <a:lnTo>
                  <a:pt x="30297" y="192795"/>
                </a:lnTo>
                <a:lnTo>
                  <a:pt x="0" y="234108"/>
                </a:lnTo>
                <a:lnTo>
                  <a:pt x="38559" y="256142"/>
                </a:lnTo>
                <a:lnTo>
                  <a:pt x="55085" y="330506"/>
                </a:lnTo>
                <a:lnTo>
                  <a:pt x="112923" y="402116"/>
                </a:lnTo>
                <a:lnTo>
                  <a:pt x="156991" y="385590"/>
                </a:lnTo>
                <a:lnTo>
                  <a:pt x="190041" y="404870"/>
                </a:lnTo>
                <a:lnTo>
                  <a:pt x="217583" y="363557"/>
                </a:lnTo>
                <a:lnTo>
                  <a:pt x="239617" y="349785"/>
                </a:lnTo>
                <a:lnTo>
                  <a:pt x="225846" y="280930"/>
                </a:lnTo>
                <a:lnTo>
                  <a:pt x="300210" y="168007"/>
                </a:lnTo>
                <a:lnTo>
                  <a:pt x="308473" y="63347"/>
                </a:lnTo>
                <a:lnTo>
                  <a:pt x="192795" y="44067"/>
                </a:lnTo>
                <a:lnTo>
                  <a:pt x="137711" y="0"/>
                </a:lnTo>
                <a:lnTo>
                  <a:pt x="77118" y="63347"/>
                </a:lnTo>
                <a:close/>
              </a:path>
            </a:pathLst>
          </a:custGeom>
          <a:solidFill>
            <a:srgbClr val="f58220"/>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4" name="Freeform 32"/>
          <p:cNvSpPr/>
          <p:nvPr/>
        </p:nvSpPr>
        <p:spPr>
          <a:xfrm>
            <a:off x="4822920" y="149400"/>
            <a:ext cx="896760" cy="861840"/>
          </a:xfrm>
          <a:custGeom>
            <a:avLst/>
            <a:gdLst/>
            <a:ahLst/>
            <a:rect l="l" t="t" r="r" b="b"/>
            <a:pathLst>
              <a:path w="897874" h="862070">
                <a:moveTo>
                  <a:pt x="0" y="0"/>
                </a:moveTo>
                <a:lnTo>
                  <a:pt x="8262" y="324997"/>
                </a:lnTo>
                <a:lnTo>
                  <a:pt x="68855" y="341523"/>
                </a:lnTo>
                <a:lnTo>
                  <a:pt x="115677" y="393853"/>
                </a:lnTo>
                <a:lnTo>
                  <a:pt x="267159" y="462708"/>
                </a:lnTo>
                <a:lnTo>
                  <a:pt x="404870" y="622453"/>
                </a:lnTo>
                <a:lnTo>
                  <a:pt x="493005" y="746392"/>
                </a:lnTo>
                <a:lnTo>
                  <a:pt x="592156" y="773935"/>
                </a:lnTo>
                <a:lnTo>
                  <a:pt x="707833" y="862070"/>
                </a:lnTo>
                <a:lnTo>
                  <a:pt x="754655" y="812494"/>
                </a:lnTo>
                <a:lnTo>
                  <a:pt x="751901" y="771180"/>
                </a:lnTo>
                <a:lnTo>
                  <a:pt x="870332" y="603173"/>
                </a:lnTo>
                <a:lnTo>
                  <a:pt x="897874" y="592156"/>
                </a:lnTo>
                <a:lnTo>
                  <a:pt x="806985" y="487496"/>
                </a:lnTo>
                <a:lnTo>
                  <a:pt x="765672" y="470971"/>
                </a:lnTo>
                <a:lnTo>
                  <a:pt x="729867" y="490250"/>
                </a:lnTo>
                <a:lnTo>
                  <a:pt x="685800" y="446183"/>
                </a:lnTo>
                <a:lnTo>
                  <a:pt x="633470" y="462708"/>
                </a:lnTo>
                <a:lnTo>
                  <a:pt x="495759" y="377327"/>
                </a:lnTo>
                <a:lnTo>
                  <a:pt x="481988" y="322243"/>
                </a:lnTo>
                <a:lnTo>
                  <a:pt x="327752" y="253388"/>
                </a:lnTo>
                <a:lnTo>
                  <a:pt x="272667" y="278176"/>
                </a:lnTo>
                <a:lnTo>
                  <a:pt x="0" y="0"/>
                </a:lnTo>
                <a:close/>
              </a:path>
            </a:pathLst>
          </a:custGeom>
          <a:solidFill>
            <a:srgbClr val="ffff6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5" name="Freeform 33"/>
          <p:cNvSpPr/>
          <p:nvPr/>
        </p:nvSpPr>
        <p:spPr>
          <a:xfrm>
            <a:off x="4640400" y="482760"/>
            <a:ext cx="884160" cy="758520"/>
          </a:xfrm>
          <a:custGeom>
            <a:avLst/>
            <a:gdLst/>
            <a:ahLst/>
            <a:rect l="l" t="t" r="r" b="b"/>
            <a:pathLst>
              <a:path w="884104" h="760164">
                <a:moveTo>
                  <a:pt x="184533" y="0"/>
                </a:moveTo>
                <a:lnTo>
                  <a:pt x="0" y="291947"/>
                </a:lnTo>
                <a:lnTo>
                  <a:pt x="297456" y="291947"/>
                </a:lnTo>
                <a:lnTo>
                  <a:pt x="305718" y="738130"/>
                </a:lnTo>
                <a:lnTo>
                  <a:pt x="776690" y="760164"/>
                </a:lnTo>
                <a:lnTo>
                  <a:pt x="801478" y="707834"/>
                </a:lnTo>
                <a:lnTo>
                  <a:pt x="790461" y="661012"/>
                </a:lnTo>
                <a:lnTo>
                  <a:pt x="884104" y="531564"/>
                </a:lnTo>
                <a:lnTo>
                  <a:pt x="779444" y="440675"/>
                </a:lnTo>
                <a:lnTo>
                  <a:pt x="680292" y="418641"/>
                </a:lnTo>
                <a:lnTo>
                  <a:pt x="451692" y="118431"/>
                </a:lnTo>
                <a:lnTo>
                  <a:pt x="294702" y="57839"/>
                </a:lnTo>
                <a:lnTo>
                  <a:pt x="242372" y="2754"/>
                </a:lnTo>
                <a:lnTo>
                  <a:pt x="184533" y="0"/>
                </a:lnTo>
                <a:close/>
              </a:path>
            </a:pathLst>
          </a:custGeom>
          <a:solidFill>
            <a:srgbClr val="ffff6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6" name="Freeform 34"/>
          <p:cNvSpPr/>
          <p:nvPr/>
        </p:nvSpPr>
        <p:spPr>
          <a:xfrm>
            <a:off x="4309920" y="771480"/>
            <a:ext cx="640080" cy="914400"/>
          </a:xfrm>
          <a:custGeom>
            <a:avLst/>
            <a:gdLst/>
            <a:ahLst/>
            <a:rect l="l" t="t" r="r" b="b"/>
            <a:pathLst>
              <a:path w="638979" h="914400">
                <a:moveTo>
                  <a:pt x="170762" y="0"/>
                </a:moveTo>
                <a:lnTo>
                  <a:pt x="115678" y="123939"/>
                </a:lnTo>
                <a:lnTo>
                  <a:pt x="118432" y="250633"/>
                </a:lnTo>
                <a:lnTo>
                  <a:pt x="46822" y="341523"/>
                </a:lnTo>
                <a:lnTo>
                  <a:pt x="55085" y="418641"/>
                </a:lnTo>
                <a:lnTo>
                  <a:pt x="8263" y="470971"/>
                </a:lnTo>
                <a:lnTo>
                  <a:pt x="0" y="575631"/>
                </a:lnTo>
                <a:lnTo>
                  <a:pt x="60593" y="630715"/>
                </a:lnTo>
                <a:lnTo>
                  <a:pt x="60593" y="691308"/>
                </a:lnTo>
                <a:lnTo>
                  <a:pt x="77118" y="732621"/>
                </a:lnTo>
                <a:lnTo>
                  <a:pt x="96398" y="779443"/>
                </a:lnTo>
                <a:lnTo>
                  <a:pt x="261651" y="790460"/>
                </a:lnTo>
                <a:lnTo>
                  <a:pt x="278176" y="779443"/>
                </a:lnTo>
                <a:lnTo>
                  <a:pt x="300210" y="812494"/>
                </a:lnTo>
                <a:lnTo>
                  <a:pt x="366311" y="812494"/>
                </a:lnTo>
                <a:lnTo>
                  <a:pt x="415887" y="812494"/>
                </a:lnTo>
                <a:lnTo>
                  <a:pt x="424150" y="837282"/>
                </a:lnTo>
                <a:lnTo>
                  <a:pt x="448938" y="842790"/>
                </a:lnTo>
                <a:lnTo>
                  <a:pt x="451692" y="903383"/>
                </a:lnTo>
                <a:lnTo>
                  <a:pt x="512285" y="914400"/>
                </a:lnTo>
                <a:lnTo>
                  <a:pt x="548090" y="903383"/>
                </a:lnTo>
                <a:lnTo>
                  <a:pt x="638979" y="437920"/>
                </a:lnTo>
                <a:lnTo>
                  <a:pt x="622453" y="0"/>
                </a:lnTo>
                <a:lnTo>
                  <a:pt x="170762" y="0"/>
                </a:lnTo>
                <a:close/>
              </a:path>
            </a:pathLst>
          </a:custGeom>
          <a:solidFill>
            <a:srgbClr val="f58220"/>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7" name="Freeform 35"/>
          <p:cNvSpPr/>
          <p:nvPr/>
        </p:nvSpPr>
        <p:spPr>
          <a:xfrm>
            <a:off x="3525840" y="1195560"/>
            <a:ext cx="771480" cy="834840"/>
          </a:xfrm>
          <a:custGeom>
            <a:avLst/>
            <a:gdLst/>
            <a:ahLst/>
            <a:rect l="l" t="t" r="r" b="b"/>
            <a:pathLst>
              <a:path w="771181" h="834528">
                <a:moveTo>
                  <a:pt x="93644" y="24788"/>
                </a:moveTo>
                <a:lnTo>
                  <a:pt x="0" y="156990"/>
                </a:lnTo>
                <a:lnTo>
                  <a:pt x="57839" y="170761"/>
                </a:lnTo>
                <a:lnTo>
                  <a:pt x="132203" y="236863"/>
                </a:lnTo>
                <a:lnTo>
                  <a:pt x="137711" y="388344"/>
                </a:lnTo>
                <a:lnTo>
                  <a:pt x="187287" y="415887"/>
                </a:lnTo>
                <a:lnTo>
                  <a:pt x="228600" y="385590"/>
                </a:lnTo>
                <a:lnTo>
                  <a:pt x="446184" y="611436"/>
                </a:lnTo>
                <a:lnTo>
                  <a:pt x="457200" y="724359"/>
                </a:lnTo>
                <a:lnTo>
                  <a:pt x="512285" y="826265"/>
                </a:lnTo>
                <a:lnTo>
                  <a:pt x="674784" y="834528"/>
                </a:lnTo>
                <a:lnTo>
                  <a:pt x="710588" y="826265"/>
                </a:lnTo>
                <a:lnTo>
                  <a:pt x="707834" y="616944"/>
                </a:lnTo>
                <a:lnTo>
                  <a:pt x="771181" y="468217"/>
                </a:lnTo>
                <a:lnTo>
                  <a:pt x="707834" y="333260"/>
                </a:lnTo>
                <a:lnTo>
                  <a:pt x="575632" y="220337"/>
                </a:lnTo>
                <a:lnTo>
                  <a:pt x="589403" y="176270"/>
                </a:lnTo>
                <a:lnTo>
                  <a:pt x="534318" y="99152"/>
                </a:lnTo>
                <a:lnTo>
                  <a:pt x="470971" y="85381"/>
                </a:lnTo>
                <a:lnTo>
                  <a:pt x="443429" y="145973"/>
                </a:lnTo>
                <a:lnTo>
                  <a:pt x="308473" y="134957"/>
                </a:lnTo>
                <a:lnTo>
                  <a:pt x="291947" y="79872"/>
                </a:lnTo>
                <a:lnTo>
                  <a:pt x="245126" y="99152"/>
                </a:lnTo>
                <a:lnTo>
                  <a:pt x="203812" y="0"/>
                </a:lnTo>
                <a:lnTo>
                  <a:pt x="93644" y="24788"/>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8" name="Freeform 36"/>
          <p:cNvSpPr/>
          <p:nvPr/>
        </p:nvSpPr>
        <p:spPr>
          <a:xfrm>
            <a:off x="3384720" y="1344600"/>
            <a:ext cx="647640" cy="839880"/>
          </a:xfrm>
          <a:custGeom>
            <a:avLst/>
            <a:gdLst/>
            <a:ahLst/>
            <a:rect l="l" t="t" r="r" b="b"/>
            <a:pathLst>
              <a:path w="647240" h="840036">
                <a:moveTo>
                  <a:pt x="140465" y="0"/>
                </a:moveTo>
                <a:lnTo>
                  <a:pt x="151481" y="55084"/>
                </a:lnTo>
                <a:lnTo>
                  <a:pt x="121185" y="85381"/>
                </a:lnTo>
                <a:lnTo>
                  <a:pt x="137710" y="148728"/>
                </a:lnTo>
                <a:lnTo>
                  <a:pt x="85380" y="179024"/>
                </a:lnTo>
                <a:lnTo>
                  <a:pt x="104660" y="278176"/>
                </a:lnTo>
                <a:lnTo>
                  <a:pt x="85380" y="302964"/>
                </a:lnTo>
                <a:lnTo>
                  <a:pt x="126694" y="344277"/>
                </a:lnTo>
                <a:lnTo>
                  <a:pt x="101906" y="399361"/>
                </a:lnTo>
                <a:lnTo>
                  <a:pt x="66101" y="385590"/>
                </a:lnTo>
                <a:lnTo>
                  <a:pt x="49575" y="437920"/>
                </a:lnTo>
                <a:lnTo>
                  <a:pt x="60592" y="459954"/>
                </a:lnTo>
                <a:lnTo>
                  <a:pt x="33050" y="479234"/>
                </a:lnTo>
                <a:lnTo>
                  <a:pt x="52330" y="531564"/>
                </a:lnTo>
                <a:lnTo>
                  <a:pt x="44067" y="556352"/>
                </a:lnTo>
                <a:lnTo>
                  <a:pt x="0" y="539826"/>
                </a:lnTo>
                <a:lnTo>
                  <a:pt x="2754" y="600419"/>
                </a:lnTo>
                <a:lnTo>
                  <a:pt x="24787" y="672029"/>
                </a:lnTo>
                <a:lnTo>
                  <a:pt x="74363" y="716096"/>
                </a:lnTo>
                <a:lnTo>
                  <a:pt x="57838" y="757409"/>
                </a:lnTo>
                <a:lnTo>
                  <a:pt x="107414" y="840036"/>
                </a:lnTo>
                <a:lnTo>
                  <a:pt x="151481" y="826265"/>
                </a:lnTo>
                <a:lnTo>
                  <a:pt x="195549" y="812494"/>
                </a:lnTo>
                <a:lnTo>
                  <a:pt x="201057" y="751901"/>
                </a:lnTo>
                <a:lnTo>
                  <a:pt x="278175" y="716096"/>
                </a:lnTo>
                <a:lnTo>
                  <a:pt x="341522" y="776689"/>
                </a:lnTo>
                <a:lnTo>
                  <a:pt x="448937" y="702325"/>
                </a:lnTo>
                <a:lnTo>
                  <a:pt x="473725" y="740884"/>
                </a:lnTo>
                <a:lnTo>
                  <a:pt x="517792" y="738130"/>
                </a:lnTo>
                <a:lnTo>
                  <a:pt x="567368" y="760164"/>
                </a:lnTo>
                <a:lnTo>
                  <a:pt x="559106" y="669275"/>
                </a:lnTo>
                <a:lnTo>
                  <a:pt x="625207" y="674783"/>
                </a:lnTo>
                <a:lnTo>
                  <a:pt x="647240" y="666520"/>
                </a:lnTo>
                <a:lnTo>
                  <a:pt x="592156" y="567369"/>
                </a:lnTo>
                <a:lnTo>
                  <a:pt x="581139" y="459954"/>
                </a:lnTo>
                <a:lnTo>
                  <a:pt x="358048" y="236862"/>
                </a:lnTo>
                <a:lnTo>
                  <a:pt x="316734" y="258896"/>
                </a:lnTo>
                <a:lnTo>
                  <a:pt x="286438" y="242371"/>
                </a:lnTo>
                <a:lnTo>
                  <a:pt x="272667" y="85381"/>
                </a:lnTo>
                <a:lnTo>
                  <a:pt x="203812" y="16525"/>
                </a:lnTo>
                <a:lnTo>
                  <a:pt x="140465" y="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29" name="Freeform 37"/>
          <p:cNvSpPr/>
          <p:nvPr/>
        </p:nvSpPr>
        <p:spPr>
          <a:xfrm>
            <a:off x="5268960" y="1060560"/>
            <a:ext cx="731880" cy="749160"/>
          </a:xfrm>
          <a:custGeom>
            <a:avLst/>
            <a:gdLst/>
            <a:ahLst/>
            <a:rect l="l" t="t" r="r" b="b"/>
            <a:pathLst>
              <a:path w="732622" h="749147">
                <a:moveTo>
                  <a:pt x="209320" y="16526"/>
                </a:moveTo>
                <a:lnTo>
                  <a:pt x="173516" y="90890"/>
                </a:lnTo>
                <a:lnTo>
                  <a:pt x="170761" y="140466"/>
                </a:lnTo>
                <a:lnTo>
                  <a:pt x="151482" y="168008"/>
                </a:lnTo>
                <a:lnTo>
                  <a:pt x="121185" y="225846"/>
                </a:lnTo>
                <a:lnTo>
                  <a:pt x="132202" y="275422"/>
                </a:lnTo>
                <a:lnTo>
                  <a:pt x="101906" y="308473"/>
                </a:lnTo>
                <a:lnTo>
                  <a:pt x="99152" y="352540"/>
                </a:lnTo>
                <a:lnTo>
                  <a:pt x="30296" y="418641"/>
                </a:lnTo>
                <a:lnTo>
                  <a:pt x="0" y="658258"/>
                </a:lnTo>
                <a:lnTo>
                  <a:pt x="88135" y="622454"/>
                </a:lnTo>
                <a:lnTo>
                  <a:pt x="192795" y="603174"/>
                </a:lnTo>
                <a:lnTo>
                  <a:pt x="228600" y="600420"/>
                </a:lnTo>
                <a:lnTo>
                  <a:pt x="319489" y="749147"/>
                </a:lnTo>
                <a:lnTo>
                  <a:pt x="360802" y="641733"/>
                </a:lnTo>
                <a:lnTo>
                  <a:pt x="435166" y="581140"/>
                </a:lnTo>
                <a:lnTo>
                  <a:pt x="413132" y="553598"/>
                </a:lnTo>
                <a:lnTo>
                  <a:pt x="479234" y="490251"/>
                </a:lnTo>
                <a:lnTo>
                  <a:pt x="520547" y="504022"/>
                </a:lnTo>
                <a:lnTo>
                  <a:pt x="559106" y="437921"/>
                </a:lnTo>
                <a:lnTo>
                  <a:pt x="616944" y="413133"/>
                </a:lnTo>
                <a:lnTo>
                  <a:pt x="644487" y="349786"/>
                </a:lnTo>
                <a:lnTo>
                  <a:pt x="732622" y="256143"/>
                </a:lnTo>
                <a:lnTo>
                  <a:pt x="691308" y="134957"/>
                </a:lnTo>
                <a:lnTo>
                  <a:pt x="705079" y="66102"/>
                </a:lnTo>
                <a:lnTo>
                  <a:pt x="630716" y="121186"/>
                </a:lnTo>
                <a:lnTo>
                  <a:pt x="578385" y="90890"/>
                </a:lnTo>
                <a:lnTo>
                  <a:pt x="553597" y="118432"/>
                </a:lnTo>
                <a:lnTo>
                  <a:pt x="454446" y="60593"/>
                </a:lnTo>
                <a:lnTo>
                  <a:pt x="319489" y="0"/>
                </a:lnTo>
                <a:lnTo>
                  <a:pt x="209320" y="16526"/>
                </a:lnTo>
                <a:close/>
              </a:path>
            </a:pathLst>
          </a:custGeom>
          <a:solidFill>
            <a:srgbClr val="ffff6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0" name="Freeform 38"/>
          <p:cNvSpPr/>
          <p:nvPr/>
        </p:nvSpPr>
        <p:spPr>
          <a:xfrm>
            <a:off x="5969160" y="760320"/>
            <a:ext cx="436320" cy="542880"/>
          </a:xfrm>
          <a:custGeom>
            <a:avLst/>
            <a:gdLst/>
            <a:ahLst/>
            <a:rect l="l" t="t" r="r" b="b"/>
            <a:pathLst>
              <a:path w="437920" h="542581">
                <a:moveTo>
                  <a:pt x="2754" y="374573"/>
                </a:moveTo>
                <a:lnTo>
                  <a:pt x="57839" y="322243"/>
                </a:lnTo>
                <a:lnTo>
                  <a:pt x="217583" y="253388"/>
                </a:lnTo>
                <a:lnTo>
                  <a:pt x="261651" y="118431"/>
                </a:lnTo>
                <a:lnTo>
                  <a:pt x="253388" y="66101"/>
                </a:lnTo>
                <a:lnTo>
                  <a:pt x="261651" y="0"/>
                </a:lnTo>
                <a:lnTo>
                  <a:pt x="363557" y="8263"/>
                </a:lnTo>
                <a:lnTo>
                  <a:pt x="429658" y="96397"/>
                </a:lnTo>
                <a:lnTo>
                  <a:pt x="402116" y="121185"/>
                </a:lnTo>
                <a:lnTo>
                  <a:pt x="437920" y="225846"/>
                </a:lnTo>
                <a:lnTo>
                  <a:pt x="385590" y="333260"/>
                </a:lnTo>
                <a:lnTo>
                  <a:pt x="349785" y="363556"/>
                </a:lnTo>
                <a:lnTo>
                  <a:pt x="275422" y="404870"/>
                </a:lnTo>
                <a:lnTo>
                  <a:pt x="223092" y="459954"/>
                </a:lnTo>
                <a:lnTo>
                  <a:pt x="170761" y="459954"/>
                </a:lnTo>
                <a:lnTo>
                  <a:pt x="41313" y="542581"/>
                </a:lnTo>
                <a:lnTo>
                  <a:pt x="0" y="440675"/>
                </a:lnTo>
                <a:lnTo>
                  <a:pt x="2754" y="374573"/>
                </a:lnTo>
                <a:close/>
              </a:path>
            </a:pathLst>
          </a:custGeom>
          <a:solidFill>
            <a:srgbClr val="ffff6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1" name="Freeform 39"/>
          <p:cNvSpPr/>
          <p:nvPr/>
        </p:nvSpPr>
        <p:spPr>
          <a:xfrm>
            <a:off x="5065560" y="1657440"/>
            <a:ext cx="559080" cy="796680"/>
          </a:xfrm>
          <a:custGeom>
            <a:avLst/>
            <a:gdLst/>
            <a:ahLst/>
            <a:rect l="l" t="t" r="r" b="b"/>
            <a:pathLst>
              <a:path w="559106" h="795968">
                <a:moveTo>
                  <a:pt x="203812" y="55084"/>
                </a:moveTo>
                <a:lnTo>
                  <a:pt x="159744" y="187286"/>
                </a:lnTo>
                <a:lnTo>
                  <a:pt x="99152" y="291947"/>
                </a:lnTo>
                <a:lnTo>
                  <a:pt x="46822" y="313980"/>
                </a:lnTo>
                <a:lnTo>
                  <a:pt x="0" y="448937"/>
                </a:lnTo>
                <a:lnTo>
                  <a:pt x="22034" y="561860"/>
                </a:lnTo>
                <a:lnTo>
                  <a:pt x="145973" y="707833"/>
                </a:lnTo>
                <a:lnTo>
                  <a:pt x="402115" y="795968"/>
                </a:lnTo>
                <a:cubicBezTo>
                  <a:pt x="403033" y="758327"/>
                  <a:pt x="403952" y="720686"/>
                  <a:pt x="404870" y="683045"/>
                </a:cubicBezTo>
                <a:lnTo>
                  <a:pt x="393853" y="638978"/>
                </a:lnTo>
                <a:lnTo>
                  <a:pt x="437920" y="583894"/>
                </a:lnTo>
                <a:lnTo>
                  <a:pt x="437920" y="481988"/>
                </a:lnTo>
                <a:lnTo>
                  <a:pt x="476479" y="429657"/>
                </a:lnTo>
                <a:lnTo>
                  <a:pt x="462708" y="349785"/>
                </a:lnTo>
                <a:lnTo>
                  <a:pt x="490250" y="324997"/>
                </a:lnTo>
                <a:lnTo>
                  <a:pt x="476479" y="272667"/>
                </a:lnTo>
                <a:lnTo>
                  <a:pt x="559106" y="236862"/>
                </a:lnTo>
                <a:lnTo>
                  <a:pt x="528809" y="195549"/>
                </a:lnTo>
                <a:lnTo>
                  <a:pt x="548089" y="168007"/>
                </a:lnTo>
                <a:lnTo>
                  <a:pt x="512284" y="134956"/>
                </a:lnTo>
                <a:lnTo>
                  <a:pt x="415887" y="0"/>
                </a:lnTo>
                <a:lnTo>
                  <a:pt x="203812" y="55084"/>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2" name="Freeform 40"/>
          <p:cNvSpPr/>
          <p:nvPr/>
        </p:nvSpPr>
        <p:spPr>
          <a:xfrm>
            <a:off x="4722840" y="1220760"/>
            <a:ext cx="685800" cy="1279440"/>
          </a:xfrm>
          <a:custGeom>
            <a:avLst/>
            <a:gdLst/>
            <a:ahLst/>
            <a:rect l="l" t="t" r="r" b="b"/>
            <a:pathLst>
              <a:path w="685800" h="1280711">
                <a:moveTo>
                  <a:pt x="223091" y="0"/>
                </a:moveTo>
                <a:lnTo>
                  <a:pt x="140465" y="451692"/>
                </a:lnTo>
                <a:lnTo>
                  <a:pt x="107414" y="468217"/>
                </a:lnTo>
                <a:lnTo>
                  <a:pt x="187287" y="586648"/>
                </a:lnTo>
                <a:lnTo>
                  <a:pt x="118431" y="762918"/>
                </a:lnTo>
                <a:lnTo>
                  <a:pt x="145973" y="795969"/>
                </a:lnTo>
                <a:lnTo>
                  <a:pt x="112923" y="820757"/>
                </a:lnTo>
                <a:lnTo>
                  <a:pt x="201058" y="991518"/>
                </a:lnTo>
                <a:lnTo>
                  <a:pt x="0" y="1264186"/>
                </a:lnTo>
                <a:lnTo>
                  <a:pt x="212075" y="1280711"/>
                </a:lnTo>
                <a:lnTo>
                  <a:pt x="366311" y="1096178"/>
                </a:lnTo>
                <a:lnTo>
                  <a:pt x="415887" y="1098933"/>
                </a:lnTo>
                <a:lnTo>
                  <a:pt x="443429" y="1096178"/>
                </a:lnTo>
                <a:lnTo>
                  <a:pt x="355294" y="1002535"/>
                </a:lnTo>
                <a:lnTo>
                  <a:pt x="344277" y="892366"/>
                </a:lnTo>
                <a:lnTo>
                  <a:pt x="385590" y="743639"/>
                </a:lnTo>
                <a:lnTo>
                  <a:pt x="448937" y="729868"/>
                </a:lnTo>
                <a:lnTo>
                  <a:pt x="550843" y="490251"/>
                </a:lnTo>
                <a:lnTo>
                  <a:pt x="583894" y="245125"/>
                </a:lnTo>
                <a:lnTo>
                  <a:pt x="638978" y="201058"/>
                </a:lnTo>
                <a:lnTo>
                  <a:pt x="647241" y="148728"/>
                </a:lnTo>
                <a:lnTo>
                  <a:pt x="677537" y="99152"/>
                </a:lnTo>
                <a:lnTo>
                  <a:pt x="666520" y="55084"/>
                </a:lnTo>
                <a:lnTo>
                  <a:pt x="685800" y="16525"/>
                </a:lnTo>
                <a:lnTo>
                  <a:pt x="223091" y="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3" name="Freeform 41"/>
          <p:cNvSpPr/>
          <p:nvPr/>
        </p:nvSpPr>
        <p:spPr>
          <a:xfrm>
            <a:off x="4230720" y="1542960"/>
            <a:ext cx="693720" cy="1092240"/>
          </a:xfrm>
          <a:custGeom>
            <a:avLst/>
            <a:gdLst/>
            <a:ahLst/>
            <a:rect l="l" t="t" r="r" b="b"/>
            <a:pathLst>
              <a:path w="694063" h="1093425">
                <a:moveTo>
                  <a:pt x="151482" y="110169"/>
                </a:moveTo>
                <a:lnTo>
                  <a:pt x="79872" y="104661"/>
                </a:lnTo>
                <a:lnTo>
                  <a:pt x="0" y="272668"/>
                </a:lnTo>
                <a:lnTo>
                  <a:pt x="0" y="481988"/>
                </a:lnTo>
                <a:lnTo>
                  <a:pt x="57839" y="506776"/>
                </a:lnTo>
                <a:lnTo>
                  <a:pt x="96398" y="556352"/>
                </a:lnTo>
                <a:lnTo>
                  <a:pt x="143219" y="570123"/>
                </a:lnTo>
                <a:lnTo>
                  <a:pt x="143219" y="638979"/>
                </a:lnTo>
                <a:lnTo>
                  <a:pt x="104660" y="754656"/>
                </a:lnTo>
                <a:lnTo>
                  <a:pt x="121186" y="1093425"/>
                </a:lnTo>
                <a:lnTo>
                  <a:pt x="426904" y="1076899"/>
                </a:lnTo>
                <a:lnTo>
                  <a:pt x="421395" y="950205"/>
                </a:lnTo>
                <a:lnTo>
                  <a:pt x="501268" y="944697"/>
                </a:lnTo>
                <a:lnTo>
                  <a:pt x="694063" y="663767"/>
                </a:lnTo>
                <a:lnTo>
                  <a:pt x="611436" y="501268"/>
                </a:lnTo>
                <a:lnTo>
                  <a:pt x="638978" y="465463"/>
                </a:lnTo>
                <a:lnTo>
                  <a:pt x="608682" y="443429"/>
                </a:lnTo>
                <a:lnTo>
                  <a:pt x="685800" y="258897"/>
                </a:lnTo>
                <a:lnTo>
                  <a:pt x="600419" y="137711"/>
                </a:lnTo>
                <a:lnTo>
                  <a:pt x="539827" y="126694"/>
                </a:lnTo>
                <a:lnTo>
                  <a:pt x="520547" y="68856"/>
                </a:lnTo>
                <a:lnTo>
                  <a:pt x="509530" y="55085"/>
                </a:lnTo>
                <a:lnTo>
                  <a:pt x="493005" y="35805"/>
                </a:lnTo>
                <a:lnTo>
                  <a:pt x="380082" y="44068"/>
                </a:lnTo>
                <a:lnTo>
                  <a:pt x="355294" y="8263"/>
                </a:lnTo>
                <a:lnTo>
                  <a:pt x="330506" y="27543"/>
                </a:lnTo>
                <a:lnTo>
                  <a:pt x="170762" y="0"/>
                </a:lnTo>
                <a:lnTo>
                  <a:pt x="134957" y="38559"/>
                </a:lnTo>
                <a:lnTo>
                  <a:pt x="151482" y="110169"/>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4" name="Freeform 45"/>
          <p:cNvSpPr/>
          <p:nvPr/>
        </p:nvSpPr>
        <p:spPr>
          <a:xfrm>
            <a:off x="3941640" y="2011320"/>
            <a:ext cx="435240" cy="809640"/>
          </a:xfrm>
          <a:custGeom>
            <a:avLst/>
            <a:gdLst/>
            <a:ahLst/>
            <a:rect l="l" t="t" r="r" b="b"/>
            <a:pathLst>
              <a:path w="435167" h="809740">
                <a:moveTo>
                  <a:pt x="0" y="5509"/>
                </a:moveTo>
                <a:cubicBezTo>
                  <a:pt x="918" y="34887"/>
                  <a:pt x="1837" y="64266"/>
                  <a:pt x="2755" y="93644"/>
                </a:cubicBezTo>
                <a:lnTo>
                  <a:pt x="44068" y="181779"/>
                </a:lnTo>
                <a:lnTo>
                  <a:pt x="27543" y="209321"/>
                </a:lnTo>
                <a:lnTo>
                  <a:pt x="38559" y="308473"/>
                </a:lnTo>
                <a:lnTo>
                  <a:pt x="145974" y="421395"/>
                </a:lnTo>
                <a:lnTo>
                  <a:pt x="118432" y="465463"/>
                </a:lnTo>
                <a:lnTo>
                  <a:pt x="143220" y="515039"/>
                </a:lnTo>
                <a:lnTo>
                  <a:pt x="129449" y="556352"/>
                </a:lnTo>
                <a:lnTo>
                  <a:pt x="170762" y="597665"/>
                </a:lnTo>
                <a:lnTo>
                  <a:pt x="173516" y="644487"/>
                </a:lnTo>
                <a:lnTo>
                  <a:pt x="184533" y="696817"/>
                </a:lnTo>
                <a:lnTo>
                  <a:pt x="143220" y="809740"/>
                </a:lnTo>
                <a:lnTo>
                  <a:pt x="410379" y="804232"/>
                </a:lnTo>
                <a:lnTo>
                  <a:pt x="396608" y="291947"/>
                </a:lnTo>
                <a:lnTo>
                  <a:pt x="432412" y="165253"/>
                </a:lnTo>
                <a:lnTo>
                  <a:pt x="435167" y="107415"/>
                </a:lnTo>
                <a:lnTo>
                  <a:pt x="377328" y="88135"/>
                </a:lnTo>
                <a:lnTo>
                  <a:pt x="341523" y="33051"/>
                </a:lnTo>
                <a:lnTo>
                  <a:pt x="291947" y="5509"/>
                </a:lnTo>
                <a:lnTo>
                  <a:pt x="215743" y="14593"/>
                </a:lnTo>
                <a:lnTo>
                  <a:pt x="88135" y="0"/>
                </a:lnTo>
                <a:lnTo>
                  <a:pt x="0" y="5509"/>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5" name="Freeform 57"/>
          <p:cNvSpPr/>
          <p:nvPr/>
        </p:nvSpPr>
        <p:spPr>
          <a:xfrm>
            <a:off x="3459240" y="2043000"/>
            <a:ext cx="671400" cy="1116000"/>
          </a:xfrm>
          <a:custGeom>
            <a:avLst/>
            <a:gdLst/>
            <a:ahLst/>
            <a:rect l="l" t="t" r="r" b="b"/>
            <a:pathLst>
              <a:path w="672029" h="1115458">
                <a:moveTo>
                  <a:pt x="27543" y="143219"/>
                </a:moveTo>
                <a:lnTo>
                  <a:pt x="55085" y="236863"/>
                </a:lnTo>
                <a:lnTo>
                  <a:pt x="46822" y="261651"/>
                </a:lnTo>
                <a:lnTo>
                  <a:pt x="55085" y="297455"/>
                </a:lnTo>
                <a:lnTo>
                  <a:pt x="101906" y="275422"/>
                </a:lnTo>
                <a:lnTo>
                  <a:pt x="118432" y="324998"/>
                </a:lnTo>
                <a:lnTo>
                  <a:pt x="99152" y="358048"/>
                </a:lnTo>
                <a:lnTo>
                  <a:pt x="115677" y="473725"/>
                </a:lnTo>
                <a:lnTo>
                  <a:pt x="85381" y="479234"/>
                </a:lnTo>
                <a:lnTo>
                  <a:pt x="19280" y="550843"/>
                </a:lnTo>
                <a:lnTo>
                  <a:pt x="38559" y="630716"/>
                </a:lnTo>
                <a:lnTo>
                  <a:pt x="0" y="677537"/>
                </a:lnTo>
                <a:lnTo>
                  <a:pt x="44068" y="751901"/>
                </a:lnTo>
                <a:lnTo>
                  <a:pt x="33051" y="806985"/>
                </a:lnTo>
                <a:lnTo>
                  <a:pt x="66102" y="848299"/>
                </a:lnTo>
                <a:lnTo>
                  <a:pt x="49576" y="870332"/>
                </a:lnTo>
                <a:lnTo>
                  <a:pt x="126694" y="955713"/>
                </a:lnTo>
                <a:lnTo>
                  <a:pt x="179024" y="1071390"/>
                </a:lnTo>
                <a:lnTo>
                  <a:pt x="242371" y="1030077"/>
                </a:lnTo>
                <a:lnTo>
                  <a:pt x="300210" y="1071390"/>
                </a:lnTo>
                <a:lnTo>
                  <a:pt x="355294" y="1071390"/>
                </a:lnTo>
                <a:lnTo>
                  <a:pt x="374574" y="1115458"/>
                </a:lnTo>
                <a:lnTo>
                  <a:pt x="410379" y="1109949"/>
                </a:lnTo>
                <a:lnTo>
                  <a:pt x="391099" y="804231"/>
                </a:lnTo>
                <a:lnTo>
                  <a:pt x="641733" y="776689"/>
                </a:lnTo>
                <a:lnTo>
                  <a:pt x="672029" y="658258"/>
                </a:lnTo>
                <a:lnTo>
                  <a:pt x="647241" y="550843"/>
                </a:lnTo>
                <a:lnTo>
                  <a:pt x="614191" y="534318"/>
                </a:lnTo>
                <a:lnTo>
                  <a:pt x="622453" y="468217"/>
                </a:lnTo>
                <a:lnTo>
                  <a:pt x="600420" y="426904"/>
                </a:lnTo>
                <a:lnTo>
                  <a:pt x="625208" y="380082"/>
                </a:lnTo>
                <a:lnTo>
                  <a:pt x="517793" y="267159"/>
                </a:lnTo>
                <a:lnTo>
                  <a:pt x="509531" y="173516"/>
                </a:lnTo>
                <a:lnTo>
                  <a:pt x="520547" y="134957"/>
                </a:lnTo>
                <a:lnTo>
                  <a:pt x="484743" y="38559"/>
                </a:lnTo>
                <a:lnTo>
                  <a:pt x="404870" y="41313"/>
                </a:lnTo>
                <a:lnTo>
                  <a:pt x="374574" y="0"/>
                </a:lnTo>
                <a:lnTo>
                  <a:pt x="267159" y="77118"/>
                </a:lnTo>
                <a:lnTo>
                  <a:pt x="201058" y="19279"/>
                </a:lnTo>
                <a:lnTo>
                  <a:pt x="121186" y="52330"/>
                </a:lnTo>
                <a:lnTo>
                  <a:pt x="112923" y="110169"/>
                </a:lnTo>
                <a:lnTo>
                  <a:pt x="27543" y="143219"/>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6" name="Freeform 58"/>
          <p:cNvSpPr/>
          <p:nvPr/>
        </p:nvSpPr>
        <p:spPr>
          <a:xfrm>
            <a:off x="3321000" y="2851200"/>
            <a:ext cx="557280" cy="1065240"/>
          </a:xfrm>
          <a:custGeom>
            <a:avLst/>
            <a:gdLst/>
            <a:ahLst/>
            <a:rect l="l" t="t" r="r" b="b"/>
            <a:pathLst>
              <a:path w="556351" h="1065882">
                <a:moveTo>
                  <a:pt x="173515" y="44068"/>
                </a:moveTo>
                <a:lnTo>
                  <a:pt x="143219" y="0"/>
                </a:lnTo>
                <a:lnTo>
                  <a:pt x="123939" y="79873"/>
                </a:lnTo>
                <a:lnTo>
                  <a:pt x="82626" y="110169"/>
                </a:lnTo>
                <a:lnTo>
                  <a:pt x="90889" y="145974"/>
                </a:lnTo>
                <a:lnTo>
                  <a:pt x="71609" y="179025"/>
                </a:lnTo>
                <a:lnTo>
                  <a:pt x="68855" y="245126"/>
                </a:lnTo>
                <a:lnTo>
                  <a:pt x="68855" y="297456"/>
                </a:lnTo>
                <a:lnTo>
                  <a:pt x="49575" y="360803"/>
                </a:lnTo>
                <a:lnTo>
                  <a:pt x="112922" y="429658"/>
                </a:lnTo>
                <a:lnTo>
                  <a:pt x="96397" y="454446"/>
                </a:lnTo>
                <a:lnTo>
                  <a:pt x="145973" y="523302"/>
                </a:lnTo>
                <a:lnTo>
                  <a:pt x="145973" y="583894"/>
                </a:lnTo>
                <a:lnTo>
                  <a:pt x="90889" y="622453"/>
                </a:lnTo>
                <a:lnTo>
                  <a:pt x="88134" y="691309"/>
                </a:lnTo>
                <a:lnTo>
                  <a:pt x="60592" y="729868"/>
                </a:lnTo>
                <a:lnTo>
                  <a:pt x="57838" y="760164"/>
                </a:lnTo>
                <a:lnTo>
                  <a:pt x="24787" y="762919"/>
                </a:lnTo>
                <a:lnTo>
                  <a:pt x="49575" y="818003"/>
                </a:lnTo>
                <a:lnTo>
                  <a:pt x="57838" y="840037"/>
                </a:lnTo>
                <a:lnTo>
                  <a:pt x="0" y="878596"/>
                </a:lnTo>
                <a:lnTo>
                  <a:pt x="46821" y="911646"/>
                </a:lnTo>
                <a:lnTo>
                  <a:pt x="24787" y="969485"/>
                </a:lnTo>
                <a:lnTo>
                  <a:pt x="44067" y="1065882"/>
                </a:lnTo>
                <a:lnTo>
                  <a:pt x="110168" y="1057620"/>
                </a:lnTo>
                <a:lnTo>
                  <a:pt x="134956" y="1065882"/>
                </a:lnTo>
                <a:lnTo>
                  <a:pt x="187286" y="1013552"/>
                </a:lnTo>
                <a:lnTo>
                  <a:pt x="173515" y="955714"/>
                </a:lnTo>
                <a:lnTo>
                  <a:pt x="228600" y="908892"/>
                </a:lnTo>
                <a:lnTo>
                  <a:pt x="253387" y="933680"/>
                </a:lnTo>
                <a:lnTo>
                  <a:pt x="305718" y="875841"/>
                </a:lnTo>
                <a:lnTo>
                  <a:pt x="313980" y="806986"/>
                </a:lnTo>
                <a:lnTo>
                  <a:pt x="421395" y="760164"/>
                </a:lnTo>
                <a:lnTo>
                  <a:pt x="481987" y="669275"/>
                </a:lnTo>
                <a:lnTo>
                  <a:pt x="556351" y="638979"/>
                </a:lnTo>
                <a:lnTo>
                  <a:pt x="548089" y="305719"/>
                </a:lnTo>
                <a:lnTo>
                  <a:pt x="509530" y="308473"/>
                </a:lnTo>
                <a:lnTo>
                  <a:pt x="484742" y="261651"/>
                </a:lnTo>
                <a:lnTo>
                  <a:pt x="432412" y="267159"/>
                </a:lnTo>
                <a:lnTo>
                  <a:pt x="385590" y="228600"/>
                </a:lnTo>
                <a:lnTo>
                  <a:pt x="319489" y="264405"/>
                </a:lnTo>
                <a:lnTo>
                  <a:pt x="258896" y="134957"/>
                </a:lnTo>
                <a:lnTo>
                  <a:pt x="173515" y="44068"/>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7" name="Freeform 59"/>
          <p:cNvSpPr/>
          <p:nvPr/>
        </p:nvSpPr>
        <p:spPr>
          <a:xfrm>
            <a:off x="3849840" y="2608200"/>
            <a:ext cx="807840" cy="865080"/>
          </a:xfrm>
          <a:custGeom>
            <a:avLst/>
            <a:gdLst/>
            <a:ahLst/>
            <a:rect l="l" t="t" r="r" b="b"/>
            <a:pathLst>
              <a:path w="806986" h="864824">
                <a:moveTo>
                  <a:pt x="0" y="242371"/>
                </a:moveTo>
                <a:lnTo>
                  <a:pt x="8263" y="537073"/>
                </a:lnTo>
                <a:lnTo>
                  <a:pt x="66101" y="542581"/>
                </a:lnTo>
                <a:lnTo>
                  <a:pt x="104660" y="581140"/>
                </a:lnTo>
                <a:lnTo>
                  <a:pt x="77118" y="622453"/>
                </a:lnTo>
                <a:lnTo>
                  <a:pt x="88135" y="652750"/>
                </a:lnTo>
                <a:lnTo>
                  <a:pt x="129448" y="652750"/>
                </a:lnTo>
                <a:lnTo>
                  <a:pt x="170762" y="616945"/>
                </a:lnTo>
                <a:lnTo>
                  <a:pt x="247880" y="721605"/>
                </a:lnTo>
                <a:lnTo>
                  <a:pt x="300210" y="743639"/>
                </a:lnTo>
                <a:lnTo>
                  <a:pt x="316735" y="784952"/>
                </a:lnTo>
                <a:lnTo>
                  <a:pt x="388345" y="784952"/>
                </a:lnTo>
                <a:lnTo>
                  <a:pt x="407624" y="765673"/>
                </a:lnTo>
                <a:lnTo>
                  <a:pt x="443429" y="793215"/>
                </a:lnTo>
                <a:lnTo>
                  <a:pt x="534318" y="768427"/>
                </a:lnTo>
                <a:lnTo>
                  <a:pt x="559106" y="790461"/>
                </a:lnTo>
                <a:lnTo>
                  <a:pt x="652750" y="787706"/>
                </a:lnTo>
                <a:lnTo>
                  <a:pt x="661012" y="823511"/>
                </a:lnTo>
                <a:lnTo>
                  <a:pt x="782198" y="864824"/>
                </a:lnTo>
                <a:lnTo>
                  <a:pt x="806986" y="0"/>
                </a:lnTo>
                <a:lnTo>
                  <a:pt x="493005" y="24788"/>
                </a:lnTo>
                <a:lnTo>
                  <a:pt x="506776" y="203812"/>
                </a:lnTo>
                <a:lnTo>
                  <a:pt x="261651" y="206567"/>
                </a:lnTo>
                <a:lnTo>
                  <a:pt x="0" y="242371"/>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8" name="Freeform 60"/>
          <p:cNvSpPr/>
          <p:nvPr/>
        </p:nvSpPr>
        <p:spPr>
          <a:xfrm>
            <a:off x="4632480" y="2316240"/>
            <a:ext cx="1096920" cy="1512720"/>
          </a:xfrm>
          <a:custGeom>
            <a:avLst/>
            <a:gdLst/>
            <a:ahLst/>
            <a:rect l="l" t="t" r="r" b="b"/>
            <a:pathLst>
              <a:path w="1096178" h="1512065">
                <a:moveTo>
                  <a:pt x="829019" y="143220"/>
                </a:moveTo>
                <a:lnTo>
                  <a:pt x="575631" y="55085"/>
                </a:lnTo>
                <a:lnTo>
                  <a:pt x="539826" y="0"/>
                </a:lnTo>
                <a:lnTo>
                  <a:pt x="457200" y="2755"/>
                </a:lnTo>
                <a:lnTo>
                  <a:pt x="297455" y="190041"/>
                </a:lnTo>
                <a:lnTo>
                  <a:pt x="110168" y="162499"/>
                </a:lnTo>
                <a:lnTo>
                  <a:pt x="24788" y="179024"/>
                </a:lnTo>
                <a:lnTo>
                  <a:pt x="19279" y="302964"/>
                </a:lnTo>
                <a:lnTo>
                  <a:pt x="0" y="1445964"/>
                </a:lnTo>
                <a:lnTo>
                  <a:pt x="55084" y="1459735"/>
                </a:lnTo>
                <a:lnTo>
                  <a:pt x="126694" y="1512065"/>
                </a:lnTo>
                <a:lnTo>
                  <a:pt x="165253" y="1454227"/>
                </a:lnTo>
                <a:lnTo>
                  <a:pt x="140465" y="1385371"/>
                </a:lnTo>
                <a:lnTo>
                  <a:pt x="154236" y="1258677"/>
                </a:lnTo>
                <a:lnTo>
                  <a:pt x="206566" y="1275203"/>
                </a:lnTo>
                <a:lnTo>
                  <a:pt x="203812" y="1217364"/>
                </a:lnTo>
                <a:lnTo>
                  <a:pt x="165253" y="1143000"/>
                </a:lnTo>
                <a:lnTo>
                  <a:pt x="140465" y="1098933"/>
                </a:lnTo>
                <a:lnTo>
                  <a:pt x="148727" y="1046603"/>
                </a:lnTo>
                <a:lnTo>
                  <a:pt x="209320" y="1087916"/>
                </a:lnTo>
                <a:lnTo>
                  <a:pt x="283684" y="1104441"/>
                </a:lnTo>
                <a:lnTo>
                  <a:pt x="402115" y="1098933"/>
                </a:lnTo>
                <a:lnTo>
                  <a:pt x="652749" y="1054865"/>
                </a:lnTo>
                <a:lnTo>
                  <a:pt x="917154" y="969485"/>
                </a:lnTo>
                <a:lnTo>
                  <a:pt x="936434" y="903384"/>
                </a:lnTo>
                <a:lnTo>
                  <a:pt x="1096178" y="677538"/>
                </a:lnTo>
                <a:lnTo>
                  <a:pt x="1090670" y="578386"/>
                </a:lnTo>
                <a:lnTo>
                  <a:pt x="1052111" y="614191"/>
                </a:lnTo>
                <a:lnTo>
                  <a:pt x="966730" y="545335"/>
                </a:lnTo>
                <a:lnTo>
                  <a:pt x="986009" y="440675"/>
                </a:lnTo>
                <a:lnTo>
                  <a:pt x="1032831" y="391099"/>
                </a:lnTo>
                <a:lnTo>
                  <a:pt x="994272" y="338769"/>
                </a:lnTo>
                <a:lnTo>
                  <a:pt x="862070" y="267159"/>
                </a:lnTo>
                <a:lnTo>
                  <a:pt x="784952" y="192796"/>
                </a:lnTo>
                <a:lnTo>
                  <a:pt x="829019" y="14322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39" name="Freeform 61"/>
          <p:cNvSpPr/>
          <p:nvPr/>
        </p:nvSpPr>
        <p:spPr>
          <a:xfrm>
            <a:off x="3351240" y="3151080"/>
            <a:ext cx="1388880" cy="925560"/>
          </a:xfrm>
          <a:custGeom>
            <a:avLst/>
            <a:gdLst/>
            <a:ahLst/>
            <a:rect l="l" t="t" r="r" b="b"/>
            <a:pathLst>
              <a:path w="1388125" h="925417">
                <a:moveTo>
                  <a:pt x="512284" y="0"/>
                </a:moveTo>
                <a:lnTo>
                  <a:pt x="526055" y="344277"/>
                </a:lnTo>
                <a:lnTo>
                  <a:pt x="443429" y="371819"/>
                </a:lnTo>
                <a:lnTo>
                  <a:pt x="391099" y="468217"/>
                </a:lnTo>
                <a:lnTo>
                  <a:pt x="283684" y="506776"/>
                </a:lnTo>
                <a:lnTo>
                  <a:pt x="278176" y="578386"/>
                </a:lnTo>
                <a:lnTo>
                  <a:pt x="220337" y="636224"/>
                </a:lnTo>
                <a:lnTo>
                  <a:pt x="192795" y="616945"/>
                </a:lnTo>
                <a:lnTo>
                  <a:pt x="134957" y="658258"/>
                </a:lnTo>
                <a:lnTo>
                  <a:pt x="154236" y="710588"/>
                </a:lnTo>
                <a:lnTo>
                  <a:pt x="90889" y="765672"/>
                </a:lnTo>
                <a:lnTo>
                  <a:pt x="66101" y="760164"/>
                </a:lnTo>
                <a:lnTo>
                  <a:pt x="8263" y="768427"/>
                </a:lnTo>
                <a:lnTo>
                  <a:pt x="0" y="812494"/>
                </a:lnTo>
                <a:lnTo>
                  <a:pt x="30296" y="834528"/>
                </a:lnTo>
                <a:lnTo>
                  <a:pt x="19279" y="892366"/>
                </a:lnTo>
                <a:lnTo>
                  <a:pt x="63347" y="925417"/>
                </a:lnTo>
                <a:lnTo>
                  <a:pt x="1030077" y="864824"/>
                </a:lnTo>
                <a:lnTo>
                  <a:pt x="1049357" y="815248"/>
                </a:lnTo>
                <a:lnTo>
                  <a:pt x="1019060" y="710588"/>
                </a:lnTo>
                <a:lnTo>
                  <a:pt x="1010798" y="658258"/>
                </a:lnTo>
                <a:lnTo>
                  <a:pt x="1063128" y="616945"/>
                </a:lnTo>
                <a:lnTo>
                  <a:pt x="1090670" y="647241"/>
                </a:lnTo>
                <a:lnTo>
                  <a:pt x="1206347" y="688554"/>
                </a:lnTo>
                <a:lnTo>
                  <a:pt x="1308253" y="699571"/>
                </a:lnTo>
                <a:lnTo>
                  <a:pt x="1388125" y="680292"/>
                </a:lnTo>
                <a:lnTo>
                  <a:pt x="1366091" y="638978"/>
                </a:lnTo>
                <a:lnTo>
                  <a:pt x="1311007" y="616945"/>
                </a:lnTo>
                <a:lnTo>
                  <a:pt x="1286219" y="614190"/>
                </a:lnTo>
                <a:lnTo>
                  <a:pt x="1280711" y="319489"/>
                </a:lnTo>
                <a:lnTo>
                  <a:pt x="1151263" y="278176"/>
                </a:lnTo>
                <a:lnTo>
                  <a:pt x="1148508" y="245125"/>
                </a:lnTo>
                <a:lnTo>
                  <a:pt x="1057619" y="253388"/>
                </a:lnTo>
                <a:lnTo>
                  <a:pt x="1032831" y="228600"/>
                </a:lnTo>
                <a:lnTo>
                  <a:pt x="917154" y="253388"/>
                </a:lnTo>
                <a:lnTo>
                  <a:pt x="895120" y="220337"/>
                </a:lnTo>
                <a:lnTo>
                  <a:pt x="881349" y="242371"/>
                </a:lnTo>
                <a:lnTo>
                  <a:pt x="806985" y="239617"/>
                </a:lnTo>
                <a:lnTo>
                  <a:pt x="776689" y="198304"/>
                </a:lnTo>
                <a:lnTo>
                  <a:pt x="740884" y="181778"/>
                </a:lnTo>
                <a:lnTo>
                  <a:pt x="658258" y="74364"/>
                </a:lnTo>
                <a:lnTo>
                  <a:pt x="611436" y="107415"/>
                </a:lnTo>
                <a:lnTo>
                  <a:pt x="578385" y="90889"/>
                </a:lnTo>
                <a:lnTo>
                  <a:pt x="600419" y="38559"/>
                </a:lnTo>
                <a:lnTo>
                  <a:pt x="567369" y="0"/>
                </a:lnTo>
                <a:lnTo>
                  <a:pt x="512284" y="0"/>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40" name="Freeform 62"/>
          <p:cNvSpPr/>
          <p:nvPr/>
        </p:nvSpPr>
        <p:spPr>
          <a:xfrm>
            <a:off x="3324240" y="4010040"/>
            <a:ext cx="1157400" cy="869760"/>
          </a:xfrm>
          <a:custGeom>
            <a:avLst/>
            <a:gdLst/>
            <a:ahLst/>
            <a:rect l="l" t="t" r="r" b="b"/>
            <a:pathLst>
              <a:path w="1156771" h="870332">
                <a:moveTo>
                  <a:pt x="85380" y="68855"/>
                </a:moveTo>
                <a:lnTo>
                  <a:pt x="11017" y="104660"/>
                </a:lnTo>
                <a:lnTo>
                  <a:pt x="44067" y="190041"/>
                </a:lnTo>
                <a:lnTo>
                  <a:pt x="0" y="234108"/>
                </a:lnTo>
                <a:lnTo>
                  <a:pt x="63347" y="267159"/>
                </a:lnTo>
                <a:lnTo>
                  <a:pt x="68855" y="294701"/>
                </a:lnTo>
                <a:lnTo>
                  <a:pt x="101906" y="316735"/>
                </a:lnTo>
                <a:lnTo>
                  <a:pt x="74364" y="347031"/>
                </a:lnTo>
                <a:lnTo>
                  <a:pt x="126694" y="418641"/>
                </a:lnTo>
                <a:lnTo>
                  <a:pt x="99152" y="451691"/>
                </a:lnTo>
                <a:lnTo>
                  <a:pt x="99152" y="537072"/>
                </a:lnTo>
                <a:lnTo>
                  <a:pt x="123940" y="553597"/>
                </a:lnTo>
                <a:lnTo>
                  <a:pt x="187287" y="553597"/>
                </a:lnTo>
                <a:lnTo>
                  <a:pt x="234108" y="570123"/>
                </a:lnTo>
                <a:lnTo>
                  <a:pt x="198303" y="622453"/>
                </a:lnTo>
                <a:lnTo>
                  <a:pt x="170761" y="611436"/>
                </a:lnTo>
                <a:lnTo>
                  <a:pt x="148727" y="627961"/>
                </a:lnTo>
                <a:lnTo>
                  <a:pt x="99152" y="614190"/>
                </a:lnTo>
                <a:lnTo>
                  <a:pt x="66101" y="638978"/>
                </a:lnTo>
                <a:lnTo>
                  <a:pt x="110168" y="666520"/>
                </a:lnTo>
                <a:lnTo>
                  <a:pt x="176270" y="672029"/>
                </a:lnTo>
                <a:lnTo>
                  <a:pt x="206566" y="735376"/>
                </a:lnTo>
                <a:lnTo>
                  <a:pt x="176270" y="773935"/>
                </a:lnTo>
                <a:lnTo>
                  <a:pt x="148727" y="776689"/>
                </a:lnTo>
                <a:lnTo>
                  <a:pt x="137711" y="823511"/>
                </a:lnTo>
                <a:lnTo>
                  <a:pt x="190041" y="870332"/>
                </a:lnTo>
                <a:lnTo>
                  <a:pt x="732621" y="831773"/>
                </a:lnTo>
                <a:lnTo>
                  <a:pt x="826265" y="663766"/>
                </a:lnTo>
                <a:lnTo>
                  <a:pt x="867578" y="655503"/>
                </a:lnTo>
                <a:lnTo>
                  <a:pt x="873087" y="614190"/>
                </a:lnTo>
                <a:lnTo>
                  <a:pt x="922662" y="594911"/>
                </a:lnTo>
                <a:lnTo>
                  <a:pt x="991518" y="630715"/>
                </a:lnTo>
                <a:lnTo>
                  <a:pt x="1019060" y="594911"/>
                </a:lnTo>
                <a:lnTo>
                  <a:pt x="983255" y="578385"/>
                </a:lnTo>
                <a:lnTo>
                  <a:pt x="1002535" y="545335"/>
                </a:lnTo>
                <a:lnTo>
                  <a:pt x="1076899" y="490250"/>
                </a:lnTo>
                <a:lnTo>
                  <a:pt x="1038340" y="440674"/>
                </a:lnTo>
                <a:lnTo>
                  <a:pt x="1060373" y="415887"/>
                </a:lnTo>
                <a:lnTo>
                  <a:pt x="1035585" y="385590"/>
                </a:lnTo>
                <a:lnTo>
                  <a:pt x="1019060" y="347031"/>
                </a:lnTo>
                <a:lnTo>
                  <a:pt x="1076899" y="258896"/>
                </a:lnTo>
                <a:lnTo>
                  <a:pt x="1156771" y="220337"/>
                </a:lnTo>
                <a:lnTo>
                  <a:pt x="1068636" y="170761"/>
                </a:lnTo>
                <a:lnTo>
                  <a:pt x="1087915" y="129448"/>
                </a:lnTo>
                <a:lnTo>
                  <a:pt x="1140246" y="104660"/>
                </a:lnTo>
                <a:lnTo>
                  <a:pt x="1137491" y="55084"/>
                </a:lnTo>
                <a:lnTo>
                  <a:pt x="1107195" y="57838"/>
                </a:lnTo>
                <a:lnTo>
                  <a:pt x="1049356" y="0"/>
                </a:lnTo>
                <a:lnTo>
                  <a:pt x="85380" y="68855"/>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41" name="Freeform 20481"/>
          <p:cNvSpPr/>
          <p:nvPr/>
        </p:nvSpPr>
        <p:spPr>
          <a:xfrm>
            <a:off x="3338640" y="4838760"/>
            <a:ext cx="993600" cy="1258920"/>
          </a:xfrm>
          <a:custGeom>
            <a:avLst/>
            <a:gdLst/>
            <a:ahLst/>
            <a:rect l="l" t="t" r="r" b="b"/>
            <a:pathLst>
              <a:path w="994272" h="1258677">
                <a:moveTo>
                  <a:pt x="159744" y="46822"/>
                </a:moveTo>
                <a:lnTo>
                  <a:pt x="137711" y="79872"/>
                </a:lnTo>
                <a:lnTo>
                  <a:pt x="173516" y="162499"/>
                </a:lnTo>
                <a:lnTo>
                  <a:pt x="129448" y="212075"/>
                </a:lnTo>
                <a:lnTo>
                  <a:pt x="154236" y="264405"/>
                </a:lnTo>
                <a:lnTo>
                  <a:pt x="74364" y="404870"/>
                </a:lnTo>
                <a:lnTo>
                  <a:pt x="107414" y="448937"/>
                </a:lnTo>
                <a:lnTo>
                  <a:pt x="104660" y="479234"/>
                </a:lnTo>
                <a:lnTo>
                  <a:pt x="134956" y="515039"/>
                </a:lnTo>
                <a:lnTo>
                  <a:pt x="99152" y="559106"/>
                </a:lnTo>
                <a:lnTo>
                  <a:pt x="104660" y="614190"/>
                </a:lnTo>
                <a:lnTo>
                  <a:pt x="68855" y="638978"/>
                </a:lnTo>
                <a:lnTo>
                  <a:pt x="38559" y="685800"/>
                </a:lnTo>
                <a:lnTo>
                  <a:pt x="0" y="677537"/>
                </a:lnTo>
                <a:lnTo>
                  <a:pt x="0" y="765672"/>
                </a:lnTo>
                <a:lnTo>
                  <a:pt x="5508" y="831774"/>
                </a:lnTo>
                <a:lnTo>
                  <a:pt x="16525" y="903383"/>
                </a:lnTo>
                <a:lnTo>
                  <a:pt x="2754" y="941942"/>
                </a:lnTo>
                <a:lnTo>
                  <a:pt x="90889" y="1054865"/>
                </a:lnTo>
                <a:lnTo>
                  <a:pt x="162499" y="972239"/>
                </a:lnTo>
                <a:lnTo>
                  <a:pt x="201058" y="997027"/>
                </a:lnTo>
                <a:cubicBezTo>
                  <a:pt x="200140" y="1021815"/>
                  <a:pt x="199221" y="1046602"/>
                  <a:pt x="198303" y="1071390"/>
                </a:cubicBezTo>
                <a:lnTo>
                  <a:pt x="209320" y="1148508"/>
                </a:lnTo>
                <a:lnTo>
                  <a:pt x="223091" y="1167788"/>
                </a:lnTo>
                <a:cubicBezTo>
                  <a:pt x="233190" y="1170542"/>
                  <a:pt x="243345" y="1173097"/>
                  <a:pt x="253388" y="1176051"/>
                </a:cubicBezTo>
                <a:cubicBezTo>
                  <a:pt x="268342" y="1180449"/>
                  <a:pt x="265964" y="1179585"/>
                  <a:pt x="275422" y="1184313"/>
                </a:cubicBezTo>
                <a:lnTo>
                  <a:pt x="302964" y="1247660"/>
                </a:lnTo>
                <a:lnTo>
                  <a:pt x="421395" y="1220118"/>
                </a:lnTo>
                <a:lnTo>
                  <a:pt x="509530" y="1198084"/>
                </a:lnTo>
                <a:lnTo>
                  <a:pt x="655503" y="1250414"/>
                </a:lnTo>
                <a:lnTo>
                  <a:pt x="705079" y="1258677"/>
                </a:lnTo>
                <a:lnTo>
                  <a:pt x="616944" y="1109949"/>
                </a:lnTo>
                <a:lnTo>
                  <a:pt x="567369" y="986010"/>
                </a:lnTo>
                <a:lnTo>
                  <a:pt x="597665" y="952959"/>
                </a:lnTo>
                <a:lnTo>
                  <a:pt x="567369" y="908892"/>
                </a:lnTo>
                <a:lnTo>
                  <a:pt x="625207" y="842790"/>
                </a:lnTo>
                <a:lnTo>
                  <a:pt x="729867" y="793214"/>
                </a:lnTo>
                <a:lnTo>
                  <a:pt x="762918" y="581140"/>
                </a:lnTo>
                <a:lnTo>
                  <a:pt x="878595" y="481988"/>
                </a:lnTo>
                <a:lnTo>
                  <a:pt x="991518" y="352540"/>
                </a:lnTo>
                <a:lnTo>
                  <a:pt x="974993" y="344277"/>
                </a:lnTo>
                <a:lnTo>
                  <a:pt x="994272" y="217583"/>
                </a:lnTo>
                <a:lnTo>
                  <a:pt x="952959" y="192795"/>
                </a:lnTo>
                <a:lnTo>
                  <a:pt x="917154" y="192795"/>
                </a:lnTo>
                <a:lnTo>
                  <a:pt x="889612" y="184533"/>
                </a:lnTo>
                <a:lnTo>
                  <a:pt x="873087" y="209321"/>
                </a:lnTo>
                <a:lnTo>
                  <a:pt x="749147" y="96398"/>
                </a:lnTo>
                <a:lnTo>
                  <a:pt x="713342" y="0"/>
                </a:lnTo>
                <a:lnTo>
                  <a:pt x="159744" y="46822"/>
                </a:lnTo>
                <a:close/>
              </a:path>
            </a:pathLst>
          </a:custGeom>
          <a:solidFill>
            <a:srgbClr val="006c86"/>
          </a:solidFill>
          <a:ln w="12600">
            <a:solidFill>
              <a:srgbClr val="00b0f0"/>
            </a:solidFill>
            <a:round/>
          </a:ln>
        </p:spPr>
        <p:style>
          <a:lnRef idx="0"/>
          <a:fillRef idx="0"/>
          <a:effectRef idx="0"/>
          <a:fontRef idx="minor"/>
        </p:style>
        <p:txBody>
          <a:bodyPr lIns="90000" rIns="90000" tIns="46800" bIns="46800" anchor="t">
            <a:noAutofit/>
          </a:bodyPr>
          <a:p>
            <a:endParaRPr b="1" lang="en-US" sz="7600" spc="-1" strike="noStrike">
              <a:solidFill>
                <a:srgbClr val="ffd624"/>
              </a:solidFill>
              <a:latin typeface="Verdana"/>
            </a:endParaRPr>
          </a:p>
        </p:txBody>
      </p:sp>
      <p:sp>
        <p:nvSpPr>
          <p:cNvPr id="1142" name="TextBox 1"/>
          <p:cNvSpPr/>
          <p:nvPr/>
        </p:nvSpPr>
        <p:spPr>
          <a:xfrm>
            <a:off x="6405480" y="2190600"/>
            <a:ext cx="2522520" cy="3814920"/>
          </a:xfrm>
          <a:prstGeom prst="rect">
            <a:avLst/>
          </a:prstGeom>
          <a:solidFill>
            <a:srgbClr val="ffff66"/>
          </a:solidFill>
          <a:ln w="12600">
            <a:solidFill>
              <a:srgbClr val="00b0f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2060"/>
                </a:solidFill>
                <a:latin typeface="Calibri"/>
                <a:ea typeface="ＭＳ Ｐゴシック"/>
              </a:rPr>
              <a:t>Northeast Province</a:t>
            </a:r>
            <a:endParaRPr b="1" lang="en-US" sz="20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Chaco</a:t>
            </a:r>
            <a:endParaRPr b="1" lang="en-US" sz="18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Formosa</a:t>
            </a:r>
            <a:endParaRPr b="1" lang="en-US" sz="1800" spc="-1" strike="noStrike">
              <a:solidFill>
                <a:srgbClr val="ffd624"/>
              </a:solidFill>
              <a:latin typeface="Verdan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2060"/>
                </a:solidFill>
                <a:latin typeface="Calibri"/>
                <a:ea typeface="ＭＳ Ｐゴシック"/>
              </a:rPr>
              <a:t>Corrientes y Misiones</a:t>
            </a:r>
            <a:endParaRPr b="1" lang="en-US" sz="18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ATIONAL UNIVERSITY OF FORMOSA</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NORTHEAST NATIONAL UNIVERSITY</a:t>
            </a:r>
            <a:endParaRPr b="1" lang="en-US" sz="1400" spc="-1" strike="noStrike">
              <a:solidFill>
                <a:srgbClr val="ffd624"/>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2060"/>
                </a:solidFill>
                <a:latin typeface="Calibri"/>
                <a:ea typeface="ＭＳ Ｐゴシック"/>
              </a:rPr>
              <a:t>UNIVERSIDAD NACIONAL DE MISIONES</a:t>
            </a:r>
            <a:endParaRPr b="1" lang="en-US" sz="1400" spc="-1" strike="noStrike">
              <a:solidFill>
                <a:srgbClr val="ffd624"/>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d624"/>
              </a:solidFill>
              <a:latin typeface="Verdana"/>
            </a:endParaRPr>
          </a:p>
        </p:txBody>
      </p:sp>
      <p:sp>
        <p:nvSpPr>
          <p:cNvPr id="1143" name="TextBox 2"/>
          <p:cNvSpPr/>
          <p:nvPr/>
        </p:nvSpPr>
        <p:spPr>
          <a:xfrm>
            <a:off x="5189400" y="760320"/>
            <a:ext cx="121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e15f00"/>
                </a:solidFill>
                <a:latin typeface="Verdana"/>
              </a:rPr>
              <a:t>3 HEIS</a:t>
            </a:r>
            <a:endParaRPr b="1" lang="en-US" sz="2000" spc="-1" strike="noStrike">
              <a:solidFill>
                <a:srgbClr val="ffd624"/>
              </a:solidFill>
              <a:latin typeface="Verdana"/>
            </a:endParaRPr>
          </a:p>
        </p:txBody>
      </p:sp>
      <p:sp>
        <p:nvSpPr>
          <p:cNvPr id="1144" name="TextBox 46"/>
          <p:cNvSpPr/>
          <p:nvPr/>
        </p:nvSpPr>
        <p:spPr>
          <a:xfrm>
            <a:off x="3522600" y="720720"/>
            <a:ext cx="1230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ffff00"/>
                </a:solidFill>
                <a:latin typeface="Verdana"/>
              </a:rPr>
              <a:t>5 HEIs</a:t>
            </a:r>
            <a:endParaRPr b="1" lang="en-US" sz="2000" spc="-1" strike="noStrike">
              <a:solidFill>
                <a:srgbClr val="ffd624"/>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42"/>
                                        </p:tgtEl>
                                        <p:attrNameLst>
                                          <p:attrName>style.visibility</p:attrName>
                                        </p:attrNameLst>
                                      </p:cBhvr>
                                      <p:to>
                                        <p:strVal val="visible"/>
                                      </p:to>
                                    </p:set>
                                    <p:animEffect filter="wipe(down)" transition="in">
                                      <p:cBhvr additive="repl">
                                        <p:cTn id="7" dur="500"/>
                                        <p:tgtEl>
                                          <p:spTgt spid="1142"/>
                                        </p:tgtEl>
                                      </p:cBhvr>
                                    </p:animEffect>
                                  </p:childTnLst>
                                </p:cTn>
                              </p:par>
                            </p:childTnLst>
                          </p:cTn>
                        </p:par>
                        <p:par>
                          <p:cTn id="8" nodeType="afterEffect"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1125"/>
                                        </p:tgtEl>
                                        <p:attrNameLst>
                                          <p:attrName>style.visibility</p:attrName>
                                        </p:attrNameLst>
                                      </p:cBhvr>
                                      <p:to>
                                        <p:strVal val="visible"/>
                                      </p:to>
                                    </p:set>
                                    <p:animEffect filter="wipe(down)" transition="in">
                                      <p:cBhvr additive="repl">
                                        <p:cTn id="11" dur="500"/>
                                        <p:tgtEl>
                                          <p:spTgt spid="1125"/>
                                        </p:tgtEl>
                                      </p:cBhvr>
                                    </p:animEffect>
                                  </p:childTnLst>
                                </p:cTn>
                              </p:par>
                              <p:par>
                                <p:cTn id="12" nodeType="withEffect" fill="hold" presetClass="entr" presetID="22" presetSubtype="4">
                                  <p:stCondLst>
                                    <p:cond delay="0"/>
                                  </p:stCondLst>
                                  <p:childTnLst>
                                    <p:set>
                                      <p:cBhvr>
                                        <p:cTn id="13" dur="1" fill="hold">
                                          <p:stCondLst>
                                            <p:cond delay="0"/>
                                          </p:stCondLst>
                                        </p:cTn>
                                        <p:tgtEl>
                                          <p:spTgt spid="1124"/>
                                        </p:tgtEl>
                                        <p:attrNameLst>
                                          <p:attrName>style.visibility</p:attrName>
                                        </p:attrNameLst>
                                      </p:cBhvr>
                                      <p:to>
                                        <p:strVal val="visible"/>
                                      </p:to>
                                    </p:set>
                                    <p:animEffect filter="wipe(down)" transition="in">
                                      <p:cBhvr additive="repl">
                                        <p:cTn id="14" dur="500"/>
                                        <p:tgtEl>
                                          <p:spTgt spid="1124"/>
                                        </p:tgtEl>
                                      </p:cBhvr>
                                    </p:animEffect>
                                  </p:childTnLst>
                                </p:cTn>
                              </p:par>
                              <p:par>
                                <p:cTn id="15" nodeType="withEffect" fill="hold" presetClass="entr" presetID="22" presetSubtype="4">
                                  <p:stCondLst>
                                    <p:cond delay="0"/>
                                  </p:stCondLst>
                                  <p:childTnLst>
                                    <p:set>
                                      <p:cBhvr>
                                        <p:cTn id="16" dur="1" fill="hold">
                                          <p:stCondLst>
                                            <p:cond delay="0"/>
                                          </p:stCondLst>
                                        </p:cTn>
                                        <p:tgtEl>
                                          <p:spTgt spid="1129"/>
                                        </p:tgtEl>
                                        <p:attrNameLst>
                                          <p:attrName>style.visibility</p:attrName>
                                        </p:attrNameLst>
                                      </p:cBhvr>
                                      <p:to>
                                        <p:strVal val="visible"/>
                                      </p:to>
                                    </p:set>
                                    <p:animEffect filter="wipe(down)" transition="in">
                                      <p:cBhvr additive="repl">
                                        <p:cTn id="17" dur="500"/>
                                        <p:tgtEl>
                                          <p:spTgt spid="1129"/>
                                        </p:tgtEl>
                                      </p:cBhvr>
                                    </p:animEffect>
                                  </p:childTnLst>
                                </p:cTn>
                              </p:par>
                              <p:par>
                                <p:cTn id="18" nodeType="withEffect" fill="hold" presetClass="entr" presetID="22" presetSubtype="4">
                                  <p:stCondLst>
                                    <p:cond delay="0"/>
                                  </p:stCondLst>
                                  <p:childTnLst>
                                    <p:set>
                                      <p:cBhvr>
                                        <p:cTn id="19" dur="1" fill="hold">
                                          <p:stCondLst>
                                            <p:cond delay="0"/>
                                          </p:stCondLst>
                                        </p:cTn>
                                        <p:tgtEl>
                                          <p:spTgt spid="1130"/>
                                        </p:tgtEl>
                                        <p:attrNameLst>
                                          <p:attrName>style.visibility</p:attrName>
                                        </p:attrNameLst>
                                      </p:cBhvr>
                                      <p:to>
                                        <p:strVal val="visible"/>
                                      </p:to>
                                    </p:set>
                                    <p:animEffect filter="wipe(down)" transition="in">
                                      <p:cBhvr additive="repl">
                                        <p:cTn id="20" dur="500"/>
                                        <p:tgtEl>
                                          <p:spTgt spid="1130"/>
                                        </p:tgtEl>
                                      </p:cBhvr>
                                    </p:animEffect>
                                  </p:childTnLst>
                                </p:cTn>
                              </p:par>
                              <p:par>
                                <p:cTn id="21" nodeType="withEffect" fill="hold" presetClass="entr" presetID="22" presetSubtype="4">
                                  <p:stCondLst>
                                    <p:cond delay="0"/>
                                  </p:stCondLst>
                                  <p:childTnLst>
                                    <p:set>
                                      <p:cBhvr>
                                        <p:cTn id="22" dur="1" fill="hold">
                                          <p:stCondLst>
                                            <p:cond delay="0"/>
                                          </p:stCondLst>
                                        </p:cTn>
                                        <p:tgtEl>
                                          <p:spTgt spid="1143"/>
                                        </p:tgtEl>
                                        <p:attrNameLst>
                                          <p:attrName>style.visibility</p:attrName>
                                        </p:attrNameLst>
                                      </p:cBhvr>
                                      <p:to>
                                        <p:strVal val="visible"/>
                                      </p:to>
                                    </p:set>
                                    <p:animEffect filter="wipe(down)" transition="in">
                                      <p:cBhvr additive="repl">
                                        <p:cTn id="23" dur="500"/>
                                        <p:tgtEl>
                                          <p:spTgt spid="1143"/>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119"/>
                                        </p:tgtEl>
                                        <p:attrNameLst>
                                          <p:attrName>style.visibility</p:attrName>
                                        </p:attrNameLst>
                                      </p:cBhvr>
                                      <p:to>
                                        <p:strVal val="visible"/>
                                      </p:to>
                                    </p:set>
                                    <p:animEffect filter="wipe(down)" transition="in">
                                      <p:cBhvr additive="repl">
                                        <p:cTn id="28" dur="500"/>
                                        <p:tgtEl>
                                          <p:spTgt spid="1119"/>
                                        </p:tgtEl>
                                      </p:cBhvr>
                                    </p:animEffect>
                                  </p:childTnLst>
                                </p:cTn>
                              </p:par>
                            </p:childTnLst>
                          </p:cTn>
                        </p:par>
                        <p:par>
                          <p:cTn id="29" nodeType="afterEffect" fill="hold">
                            <p:stCondLst>
                              <p:cond delay="500"/>
                            </p:stCondLst>
                            <p:childTnLst>
                              <p:par>
                                <p:cTn id="30" nodeType="afterEffect" fill="hold" presetClass="entr" presetID="22" presetSubtype="4">
                                  <p:stCondLst>
                                    <p:cond delay="0"/>
                                  </p:stCondLst>
                                  <p:childTnLst>
                                    <p:set>
                                      <p:cBhvr>
                                        <p:cTn id="31" dur="1" fill="hold">
                                          <p:stCondLst>
                                            <p:cond delay="0"/>
                                          </p:stCondLst>
                                        </p:cTn>
                                        <p:tgtEl>
                                          <p:spTgt spid="1126"/>
                                        </p:tgtEl>
                                        <p:attrNameLst>
                                          <p:attrName>style.visibility</p:attrName>
                                        </p:attrNameLst>
                                      </p:cBhvr>
                                      <p:to>
                                        <p:strVal val="visible"/>
                                      </p:to>
                                    </p:set>
                                    <p:animEffect filter="wipe(down)" transition="in">
                                      <p:cBhvr additive="repl">
                                        <p:cTn id="32" dur="500"/>
                                        <p:tgtEl>
                                          <p:spTgt spid="1126"/>
                                        </p:tgtEl>
                                      </p:cBhvr>
                                    </p:animEffect>
                                  </p:childTnLst>
                                </p:cTn>
                              </p:par>
                              <p:par>
                                <p:cTn id="33" nodeType="withEffect" fill="hold" presetClass="entr" presetID="22" presetSubtype="4">
                                  <p:stCondLst>
                                    <p:cond delay="0"/>
                                  </p:stCondLst>
                                  <p:childTnLst>
                                    <p:set>
                                      <p:cBhvr>
                                        <p:cTn id="34" dur="1" fill="hold">
                                          <p:stCondLst>
                                            <p:cond delay="0"/>
                                          </p:stCondLst>
                                        </p:cTn>
                                        <p:tgtEl>
                                          <p:spTgt spid="1122"/>
                                        </p:tgtEl>
                                        <p:attrNameLst>
                                          <p:attrName>style.visibility</p:attrName>
                                        </p:attrNameLst>
                                      </p:cBhvr>
                                      <p:to>
                                        <p:strVal val="visible"/>
                                      </p:to>
                                    </p:set>
                                    <p:animEffect filter="wipe(down)" transition="in">
                                      <p:cBhvr additive="repl">
                                        <p:cTn id="35" dur="500"/>
                                        <p:tgtEl>
                                          <p:spTgt spid="1122"/>
                                        </p:tgtEl>
                                      </p:cBhvr>
                                    </p:animEffect>
                                  </p:childTnLst>
                                </p:cTn>
                              </p:par>
                              <p:par>
                                <p:cTn id="36" nodeType="withEffect" fill="hold" presetClass="entr" presetID="22" presetSubtype="4">
                                  <p:stCondLst>
                                    <p:cond delay="0"/>
                                  </p:stCondLst>
                                  <p:childTnLst>
                                    <p:set>
                                      <p:cBhvr>
                                        <p:cTn id="37" dur="1" fill="hold">
                                          <p:stCondLst>
                                            <p:cond delay="0"/>
                                          </p:stCondLst>
                                        </p:cTn>
                                        <p:tgtEl>
                                          <p:spTgt spid="1123"/>
                                        </p:tgtEl>
                                        <p:attrNameLst>
                                          <p:attrName>style.visibility</p:attrName>
                                        </p:attrNameLst>
                                      </p:cBhvr>
                                      <p:to>
                                        <p:strVal val="visible"/>
                                      </p:to>
                                    </p:set>
                                    <p:animEffect filter="wipe(down)" transition="in">
                                      <p:cBhvr additive="repl">
                                        <p:cTn id="38" dur="500"/>
                                        <p:tgtEl>
                                          <p:spTgt spid="1123"/>
                                        </p:tgtEl>
                                      </p:cBhvr>
                                    </p:animEffect>
                                  </p:childTnLst>
                                </p:cTn>
                              </p:par>
                              <p:par>
                                <p:cTn id="39" nodeType="withEffect" fill="hold" presetClass="entr" presetID="22" presetSubtype="4">
                                  <p:stCondLst>
                                    <p:cond delay="0"/>
                                  </p:stCondLst>
                                  <p:childTnLst>
                                    <p:set>
                                      <p:cBhvr>
                                        <p:cTn id="40" dur="1" fill="hold">
                                          <p:stCondLst>
                                            <p:cond delay="0"/>
                                          </p:stCondLst>
                                        </p:cTn>
                                        <p:tgtEl>
                                          <p:spTgt spid="1121"/>
                                        </p:tgtEl>
                                        <p:attrNameLst>
                                          <p:attrName>style.visibility</p:attrName>
                                        </p:attrNameLst>
                                      </p:cBhvr>
                                      <p:to>
                                        <p:strVal val="visible"/>
                                      </p:to>
                                    </p:set>
                                    <p:animEffect filter="wipe(down)" transition="in">
                                      <p:cBhvr additive="repl">
                                        <p:cTn id="41" dur="500"/>
                                        <p:tgtEl>
                                          <p:spTgt spid="1121"/>
                                        </p:tgtEl>
                                      </p:cBhvr>
                                    </p:animEffect>
                                  </p:childTnLst>
                                </p:cTn>
                              </p:par>
                              <p:par>
                                <p:cTn id="42" nodeType="withEffect" fill="hold" presetClass="entr" presetID="22" presetSubtype="4">
                                  <p:stCondLst>
                                    <p:cond delay="0"/>
                                  </p:stCondLst>
                                  <p:childTnLst>
                                    <p:set>
                                      <p:cBhvr>
                                        <p:cTn id="43" dur="1" fill="hold">
                                          <p:stCondLst>
                                            <p:cond delay="0"/>
                                          </p:stCondLst>
                                        </p:cTn>
                                        <p:tgtEl>
                                          <p:spTgt spid="1120"/>
                                        </p:tgtEl>
                                        <p:attrNameLst>
                                          <p:attrName>style.visibility</p:attrName>
                                        </p:attrNameLst>
                                      </p:cBhvr>
                                      <p:to>
                                        <p:strVal val="visible"/>
                                      </p:to>
                                    </p:set>
                                    <p:animEffect filter="wipe(down)" transition="in">
                                      <p:cBhvr additive="repl">
                                        <p:cTn id="44" dur="500"/>
                                        <p:tgtEl>
                                          <p:spTgt spid="1120"/>
                                        </p:tgtEl>
                                      </p:cBhvr>
                                    </p:animEffect>
                                  </p:childTnLst>
                                </p:cTn>
                              </p:par>
                              <p:par>
                                <p:cTn id="45" nodeType="withEffect" fill="hold" presetClass="entr" presetID="22" presetSubtype="4">
                                  <p:stCondLst>
                                    <p:cond delay="0"/>
                                  </p:stCondLst>
                                  <p:childTnLst>
                                    <p:set>
                                      <p:cBhvr>
                                        <p:cTn id="46" dur="1" fill="hold">
                                          <p:stCondLst>
                                            <p:cond delay="0"/>
                                          </p:stCondLst>
                                        </p:cTn>
                                        <p:tgtEl>
                                          <p:spTgt spid="1144"/>
                                        </p:tgtEl>
                                        <p:attrNameLst>
                                          <p:attrName>style.visibility</p:attrName>
                                        </p:attrNameLst>
                                      </p:cBhvr>
                                      <p:to>
                                        <p:strVal val="visible"/>
                                      </p:to>
                                    </p:set>
                                    <p:animEffect filter="wipe(down)" transition="in">
                                      <p:cBhvr additive="repl">
                                        <p:cTn id="47" dur="500"/>
                                        <p:tgtEl>
                                          <p:spTgt spid="1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468360" y="1555560"/>
            <a:ext cx="8229600" cy="93636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0f5494"/>
                </a:solidFill>
                <a:latin typeface="Verdana"/>
              </a:rPr>
              <a:t>Desafíos</a:t>
            </a:r>
            <a:endParaRPr b="1" lang="en-US" sz="3000" spc="-1" strike="noStrike">
              <a:solidFill>
                <a:srgbClr val="0f5494"/>
              </a:solidFill>
              <a:latin typeface="Verdana"/>
            </a:endParaRPr>
          </a:p>
        </p:txBody>
      </p:sp>
      <p:sp>
        <p:nvSpPr>
          <p:cNvPr id="1146" name=""/>
          <p:cNvSpPr txBox="1"/>
          <p:nvPr/>
        </p:nvSpPr>
        <p:spPr>
          <a:xfrm>
            <a:off x="457200" y="2565360"/>
            <a:ext cx="8229600" cy="3633840"/>
          </a:xfrm>
          <a:prstGeom prst="rect">
            <a:avLst/>
          </a:prstGeom>
          <a:noFill/>
          <a:ln w="0">
            <a:noFill/>
          </a:ln>
        </p:spPr>
        <p:txBody>
          <a:bodyPr anchor="t">
            <a:normAutofit/>
          </a:bodyPr>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Verdana"/>
              </a:rPr>
              <a:t>Desarrollar una cooperación eficiente y duradera</a:t>
            </a:r>
            <a:endParaRPr b="0" i="1" lang="en-US" sz="18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Verdana"/>
              </a:rPr>
              <a:t>Contribuir a la mejora del nivel de calidad de los recursos humanos en los países de América Latina</a:t>
            </a:r>
            <a:endParaRPr b="0" i="1" lang="en-US" sz="18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f5494"/>
                </a:solidFill>
                <a:latin typeface="Verdana"/>
              </a:rPr>
              <a:t>Atraer y hacer participar el máximo de universidades, de ambos lados, aumentando sus capacidades  para encajar en un  contexto internacional gracias al cual se harán mas visibles y reconocidas</a:t>
            </a:r>
            <a:endParaRPr b="0" i="1" lang="en-US" sz="1800" spc="-1" strike="noStrike">
              <a:solidFill>
                <a:srgbClr val="0f5494"/>
              </a:solidFill>
              <a:latin typeface="Verdana"/>
            </a:endParaRPr>
          </a:p>
          <a:p>
            <a:pPr marL="343080" indent="-343080" algn="just">
              <a:spcBef>
                <a:spcPts val="1199"/>
              </a:spcBef>
              <a:spcAft>
                <a:spcPts val="1199"/>
              </a:spcAft>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343080" indent="-343080" algn="just">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Almudena Saenz de Miera</cp:lastModifiedBy>
  <cp:lastPrinted>2013-12-06T13:47:46Z</cp:lastPrinted>
  <dcterms:modified xsi:type="dcterms:W3CDTF">2014-06-26T02:23:32Z</dcterms:modified>
  <cp:revision>394</cp:revision>
  <dc:subject/>
  <dc:title>Slide 1</dc:title>
</cp:coreProperties>
</file>